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584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922788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5840" y="922788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34D4E22-69A9-4B86-BEAB-E1CE0B8CC32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Ver Power Point projasc2 – análise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EC78F65-1B91-4300-972C-5C6539A47DC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Factores críticos de sucesso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: são actividades ou variáveis de gestão que têm de ser muito bem executadas para garantir bom desempenho da empresa no negócio. Derivam da combinação d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Factores chave de compra: Elementos a que os clientes atribuem mais valo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Factores de competição: Elementos que mais diferenciam os melhores concorrentes em dispu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AAB6865-473E-4D3D-A074-B0A264D5A5D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 Missão consiste numa declaração escrita que traduz os ideais e as orientações globais da empr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A57BBC2-D37B-4706-8611-A634AD21FC4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onto forte (fraco) é um recurso ou actividade da empresa que contribui para satisfazer as necessidades dos clientes melhor (pior) que a concorrê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0B1B1C3-90DE-411C-A637-4041E00024D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ompetências centrais são os pontos fortes em que a empresa mais se destaca dos seus concorr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vem preencher 3 requisitos básic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riação de um valor significativo para os client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ificuldade de imitação pelos concorrent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cesso a novos merc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EE7252E-B900-4F35-9359-B079795D8B3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700" spc="-1" strike="noStrike">
                <a:solidFill>
                  <a:srgbClr val="000000"/>
                </a:solidFill>
                <a:latin typeface="Arial"/>
              </a:rPr>
              <a:t>Adequação estratégica: procurar alinhar características do negócio com capacidades da empresa, desenvolvendo competências centrais que correspondem aos factores críticos de sucesso do negócio. A empresa deve primeiro valorizar as competências centrais actuais e reforçar a prazo as competências ainda mal dominadas. O intento estratégico reflecte a perspectiva dinâmica da sua adequação estratégic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A4EC40A-4226-485C-91D4-1F27F0CD1EE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Fontes de mercado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- consiste em decidir “com que produtos vamos entrar no mercado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oncorrência directa - produtos da mesma categoria vendidos pelos concorrent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oncorrência alargada (ou difusa) - Outras categorias de produ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931852A-B5E0-4EAF-A565-1595F84F0AF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000000"/>
                </a:solidFill>
                <a:latin typeface="Arial"/>
              </a:rPr>
              <a:t>Eixos de posicionamento e diferenciação </a:t>
            </a: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– podem ser o produto, o serviço, o preço, o pessoal e a imagem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roduto: características físicas, performance, durabilidade, fiabilidade, estilo, design, etc.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Serviço: entrega, instalação, formação, consultoria, reparaçã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reço: Preços mais baixos ou mais altos que os dos concorrentes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essoal: funcionários mais competentes e melhor formados que os dos concorrente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Imagem: características puramente simbólicas conferindo uma personalidade própria (original) ao produto (produtos de imagem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000000"/>
                </a:solidFill>
                <a:latin typeface="Arial"/>
              </a:rPr>
              <a:t>Factores de diferenciaçã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roduto – Funcionalidade, Performance, Durabilidade, Estilo, Design, Momentos de consumo, Modos de consumo, Target específico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Serviço - Prazos de entrega, Instalação, Formação, Aconselhamento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reço - Preço de venda (muito alto ou baixo), Condições de pagamento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essoal – Atendimento, Competência, Cortesia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Imagem - Solução/benefício do produto, Projecção social, Projecção individual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32C8046-C807-4FD3-9484-5FAD5C5F6DAA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F7BEEFE-E028-45C8-9256-64F650A7923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B297F25-5FDB-4E0A-BE86-1BE33E62E83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930-BEFE-483E-A127-6A7664AC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0857-5316-41FD-9C30-EDA52C1A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292-351C-4D27-9EEB-4EA011A9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C3FB-1E31-45E4-8D11-80189AC2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EBD6-BC5C-4270-8CCE-EB76EAED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5778-0680-495F-82B0-131CED2B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B689-0F3B-4BB2-A12B-4334F0AC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185D-1596-4A4A-AD42-53E02B30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1A00-CCCC-49E1-907D-2D256422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5E29-CC92-4690-9C3D-ED486760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F4D4-5F3D-4167-B5E0-1661234E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0150-49FF-4EF1-B227-6F70EC21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4EE9-0F5B-40EC-AC2D-BABF00E5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B612-112E-400D-A2F9-CCDCD9BF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F4F0-6BFF-42DC-803E-E2659D53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EB49-ED67-491D-A4F2-735E10FD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512C-50A2-4BF5-AF4F-B5D9A84A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CCE70-566A-498B-9D61-B4068ACD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D22E1-0351-4E8E-B122-8D6F4408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37599-8CAB-4ECC-A045-6E1259FE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0D7CC-AD9A-4A16-9DA9-D98CD7E4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D5762-3A92-46E2-8CB2-B94D2F3A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02D-1167-41E0-B388-7801BD51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627D7-A830-4B2D-A8E5-015AD5B0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BA30D-8B85-4437-8B4F-2CDADE83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BA585-1ECB-4BF0-9D19-8F477EE0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DF3A4-1A02-4636-BF74-2C80CBC3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0BE8F-51CA-48EA-A77A-3FC4A613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20C55-7328-4AAC-8AF4-4D8E972F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45D05-BFB9-49FC-B8EC-29016AA7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046-0A2B-45DD-83B1-5ED6C8DD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9A2B-75B3-4552-8944-16BB2E72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45F-4B5F-445B-8644-EE101E38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105-175C-4FB0-8BA9-D70B9FBC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E07-8C37-4459-A7C6-DCB1DFC2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DC4-0697-46A2-8295-4CA10F2C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E8A1-6AC0-459A-8FA2-FF3D25886420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Line 19"/>
          <p:cNvSpPr/>
          <p:nvPr/>
        </p:nvSpPr>
        <p:spPr>
          <a:xfrm>
            <a:off x="304920" y="6324480"/>
            <a:ext cx="84582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6" name="Group 34"/>
          <p:cNvGrpSpPr/>
          <p:nvPr/>
        </p:nvGrpSpPr>
        <p:grpSpPr>
          <a:xfrm>
            <a:off x="228600" y="6373800"/>
            <a:ext cx="2286000" cy="484200"/>
            <a:chOff x="228600" y="6373800"/>
            <a:chExt cx="2286000" cy="484200"/>
          </a:xfrm>
        </p:grpSpPr>
        <p:pic>
          <p:nvPicPr>
            <p:cNvPr id="7" name="Picture 31" descr=""/>
            <p:cNvPicPr/>
            <p:nvPr/>
          </p:nvPicPr>
          <p:blipFill>
            <a:blip r:embed="rId2">
              <a:lum contrast="24000"/>
            </a:blip>
            <a:srcRect l="2191" t="10643" r="6439" b="8238"/>
            <a:stretch/>
          </p:blipFill>
          <p:spPr>
            <a:xfrm>
              <a:off x="803520" y="6373800"/>
              <a:ext cx="990360" cy="4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Text Box 32"/>
            <p:cNvSpPr/>
            <p:nvPr/>
          </p:nvSpPr>
          <p:spPr>
            <a:xfrm>
              <a:off x="1702080" y="6373800"/>
              <a:ext cx="81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eeece1"/>
                  </a:solidFill>
                  <a:latin typeface="Monotype Corsiva"/>
                </a:rPr>
                <a:t>WASH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9" name="Text Box 33"/>
            <p:cNvSpPr/>
            <p:nvPr/>
          </p:nvSpPr>
          <p:spPr>
            <a:xfrm>
              <a:off x="228600" y="6373800"/>
              <a:ext cx="65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eeece1"/>
                  </a:solidFill>
                  <a:latin typeface="Monotype Corsiva"/>
                </a:rPr>
                <a:t>CAR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9"/>
          <p:cNvSpPr/>
          <p:nvPr/>
        </p:nvSpPr>
        <p:spPr>
          <a:xfrm>
            <a:off x="304920" y="6324480"/>
            <a:ext cx="84582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47" name="Group 34"/>
          <p:cNvGrpSpPr/>
          <p:nvPr/>
        </p:nvGrpSpPr>
        <p:grpSpPr>
          <a:xfrm>
            <a:off x="228600" y="6373800"/>
            <a:ext cx="2286000" cy="484200"/>
            <a:chOff x="228600" y="6373800"/>
            <a:chExt cx="2286000" cy="484200"/>
          </a:xfrm>
        </p:grpSpPr>
        <p:pic>
          <p:nvPicPr>
            <p:cNvPr id="48" name="Picture 31" descr=""/>
            <p:cNvPicPr/>
            <p:nvPr/>
          </p:nvPicPr>
          <p:blipFill>
            <a:blip r:embed="rId2">
              <a:lum contrast="24000"/>
            </a:blip>
            <a:srcRect l="2191" t="10643" r="6439" b="8238"/>
            <a:stretch/>
          </p:blipFill>
          <p:spPr>
            <a:xfrm>
              <a:off x="803520" y="6373800"/>
              <a:ext cx="990360" cy="4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32"/>
            <p:cNvSpPr/>
            <p:nvPr/>
          </p:nvSpPr>
          <p:spPr>
            <a:xfrm>
              <a:off x="1702080" y="6373800"/>
              <a:ext cx="81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eeece1"/>
                  </a:solidFill>
                  <a:latin typeface="Monotype Corsiva"/>
                </a:rPr>
                <a:t>WASH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0" name="Text Box 33"/>
            <p:cNvSpPr/>
            <p:nvPr/>
          </p:nvSpPr>
          <p:spPr>
            <a:xfrm>
              <a:off x="228600" y="6373800"/>
              <a:ext cx="65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eeece1"/>
                  </a:solidFill>
                  <a:latin typeface="Monotype Corsiva"/>
                </a:rPr>
                <a:t>CAR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1E22-35AC-45FB-80AC-D85312F3ACB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19"/>
          <p:cNvSpPr/>
          <p:nvPr/>
        </p:nvSpPr>
        <p:spPr>
          <a:xfrm>
            <a:off x="304920" y="6324480"/>
            <a:ext cx="84582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93" name="Group 34"/>
          <p:cNvGrpSpPr/>
          <p:nvPr/>
        </p:nvGrpSpPr>
        <p:grpSpPr>
          <a:xfrm>
            <a:off x="228600" y="6373800"/>
            <a:ext cx="2286000" cy="484200"/>
            <a:chOff x="228600" y="6373800"/>
            <a:chExt cx="2286000" cy="484200"/>
          </a:xfrm>
        </p:grpSpPr>
        <p:pic>
          <p:nvPicPr>
            <p:cNvPr id="94" name="Picture 31" descr=""/>
            <p:cNvPicPr/>
            <p:nvPr/>
          </p:nvPicPr>
          <p:blipFill>
            <a:blip r:embed="rId2">
              <a:lum contrast="24000"/>
            </a:blip>
            <a:srcRect l="2191" t="10643" r="6439" b="8238"/>
            <a:stretch/>
          </p:blipFill>
          <p:spPr>
            <a:xfrm>
              <a:off x="803520" y="6373800"/>
              <a:ext cx="990360" cy="4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32"/>
            <p:cNvSpPr/>
            <p:nvPr/>
          </p:nvSpPr>
          <p:spPr>
            <a:xfrm>
              <a:off x="1702080" y="6373800"/>
              <a:ext cx="81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eeece1"/>
                  </a:solidFill>
                  <a:latin typeface="Monotype Corsiva"/>
                </a:rPr>
                <a:t>WASH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96" name="Text Box 33"/>
            <p:cNvSpPr/>
            <p:nvPr/>
          </p:nvSpPr>
          <p:spPr>
            <a:xfrm>
              <a:off x="228600" y="6373800"/>
              <a:ext cx="65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eeece1"/>
                  </a:solidFill>
                  <a:latin typeface="Monotype Corsiva"/>
                </a:rPr>
                <a:t>CAR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9F20-9ACF-46EF-83E1-24DC7DDA852F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7580-8A3C-4372-89F6-9243D2A96EFB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3357720" y="1357200"/>
            <a:ext cx="5252400" cy="2288520"/>
            <a:chOff x="3357720" y="1357200"/>
            <a:chExt cx="5252400" cy="2288520"/>
          </a:xfrm>
        </p:grpSpPr>
        <p:sp>
          <p:nvSpPr>
            <p:cNvPr id="147" name="Text Box 4"/>
            <p:cNvSpPr/>
            <p:nvPr/>
          </p:nvSpPr>
          <p:spPr>
            <a:xfrm>
              <a:off x="5513400" y="1357200"/>
              <a:ext cx="30967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148" name="Text Box 5"/>
            <p:cNvSpPr/>
            <p:nvPr/>
          </p:nvSpPr>
          <p:spPr>
            <a:xfrm>
              <a:off x="3357720" y="1357200"/>
              <a:ext cx="2590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7200" spc="-1" strike="noStrike">
                  <a:solidFill>
                    <a:srgbClr val="0000ff"/>
                  </a:solidFill>
                  <a:latin typeface="Monotype Corsiva"/>
                </a:rPr>
                <a:t>XPTO</a:t>
              </a:r>
              <a:endParaRPr b="1" lang="en-US" sz="72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sp>
        <p:nvSpPr>
          <p:cNvPr id="149" name="Rectangle 6"/>
          <p:cNvSpPr/>
          <p:nvPr/>
        </p:nvSpPr>
        <p:spPr>
          <a:xfrm>
            <a:off x="380880" y="380880"/>
            <a:ext cx="8382240" cy="609624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80880" y="33526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ff"/>
                </a:solidFill>
                <a:latin typeface="Monotype Corsiva"/>
              </a:rPr>
              <a:t>Onde o Serviço de (…) é Barato e de muita Qualidade</a:t>
            </a:r>
            <a:endParaRPr b="1" lang="en-US" sz="3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9715-3C55-4789-AD14-3A59E4167F0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04920" y="3276720"/>
            <a:ext cx="44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Onde vai realizar o serviço actualmente (concorrentes)? 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188" name="Object 2"/>
          <p:cNvGraphicFramePr/>
          <p:nvPr/>
        </p:nvGraphicFramePr>
        <p:xfrm>
          <a:off x="2857680" y="500040"/>
          <a:ext cx="4038480" cy="26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500040"/>
                    <a:ext cx="403848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3"/>
          <p:cNvGraphicFramePr/>
          <p:nvPr/>
        </p:nvGraphicFramePr>
        <p:xfrm>
          <a:off x="214200" y="3643200"/>
          <a:ext cx="6270840" cy="292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200" y="3643200"/>
                    <a:ext cx="627084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14"/>
          <p:cNvSpPr/>
          <p:nvPr/>
        </p:nvSpPr>
        <p:spPr>
          <a:xfrm>
            <a:off x="6629400" y="167652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Nº de serviços de (…) realizado em Chaves em média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0" y="571680"/>
            <a:ext cx="293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600" spc="-1" strike="noStrike">
                <a:solidFill>
                  <a:srgbClr val="000000"/>
                </a:solidFill>
                <a:latin typeface="Times New Roman"/>
              </a:rPr>
              <a:t>Estudo Sobre o Potencial de Mercado</a:t>
            </a:r>
            <a:endParaRPr b="1" lang="en-US" sz="3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Estudo sobre o Potencial do Mercad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926E-BA7D-4D5E-AD3D-0CB9616C593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196" name="Object 1028"/>
          <p:cNvGraphicFramePr/>
          <p:nvPr/>
        </p:nvGraphicFramePr>
        <p:xfrm>
          <a:off x="457200" y="1463760"/>
          <a:ext cx="8153280" cy="44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63760"/>
                    <a:ext cx="8153280" cy="44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1029"/>
          <p:cNvSpPr/>
          <p:nvPr/>
        </p:nvSpPr>
        <p:spPr>
          <a:xfrm>
            <a:off x="609480" y="1143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Com que regularidade utiliza os diversos serviços?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Concorrência da XP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Concorrência Direct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Serviço realizado em cas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ncorrente 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ncorrente B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ncorrente C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ncorrente D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ncorrente 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ncorrente 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Concorrência Indirect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F41D-94EF-432B-BF78-5D3C82191B6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Listagem dos Concorrent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33520" y="1503360"/>
          <a:ext cx="8070840" cy="4816440"/>
        </p:xfrm>
        <a:graphic>
          <a:graphicData uri="http://schemas.openxmlformats.org/drawingml/2006/table">
            <a:tbl>
              <a:tblPr/>
              <a:tblGrid>
                <a:gridCol w="1455480"/>
                <a:gridCol w="1598760"/>
                <a:gridCol w="2617920"/>
                <a:gridCol w="2398680"/>
              </a:tblGrid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corrente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caliza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ntos Forte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ntos Fraco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81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realizado em casa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ersa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ári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equaçã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são social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jidade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pament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.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A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a de …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zaçã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ári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ço únic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ç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de espera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de duração na prestação do servi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DE6E-4E6D-4D1E-A7AC-E04470FCF3C1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Listagem dos Concorrent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09480" y="1295280"/>
          <a:ext cx="7925040" cy="4299120"/>
        </p:xfrm>
        <a:graphic>
          <a:graphicData uri="http://schemas.openxmlformats.org/drawingml/2006/table">
            <a:tbl>
              <a:tblPr/>
              <a:tblGrid>
                <a:gridCol w="1154160"/>
                <a:gridCol w="1440000"/>
                <a:gridCol w="2975040"/>
                <a:gridCol w="2355840"/>
              </a:tblGrid>
              <a:tr h="144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B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nida de …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tão Y de descont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cionament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zaçã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de espera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de duração na prestação do servi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ço;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a Industri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de espera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ç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zaçã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da lavagem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odidade do espaç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a do Eng. …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cionament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ç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zaçã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gradação das instalaçõ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9986-24BF-44F2-AC7E-15B26DAFE8B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Listagem dos Concorrent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09480" y="1295280"/>
          <a:ext cx="7925040" cy="4849920"/>
        </p:xfrm>
        <a:graphic>
          <a:graphicData uri="http://schemas.openxmlformats.org/drawingml/2006/table">
            <a:tbl>
              <a:tblPr/>
              <a:tblGrid>
                <a:gridCol w="1428840"/>
                <a:gridCol w="1381320"/>
                <a:gridCol w="2881080"/>
                <a:gridCol w="2233800"/>
              </a:tblGrid>
              <a:tr h="170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nta do …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tão Z para promoçõe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zaçã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de espera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de duração da prestação do servi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ç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F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gar de …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zaçã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ç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de duração da prestação do serviç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5C17-04AD-4724-A82F-B90894F603B3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Quota de Mercado dos Concorrent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442800" y="1309680"/>
          <a:ext cx="8104320" cy="50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1309680"/>
                    <a:ext cx="8104320" cy="50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FF9D-D7A1-4BCD-BC55-071FE57B49D7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Forças/Fraquezas dos Concorrent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04920" y="1143000"/>
          <a:ext cx="8458200" cy="4842000"/>
        </p:xfrm>
        <a:graphic>
          <a:graphicData uri="http://schemas.openxmlformats.org/drawingml/2006/table">
            <a:tbl>
              <a:tblPr/>
              <a:tblGrid>
                <a:gridCol w="2038320"/>
                <a:gridCol w="898560"/>
                <a:gridCol w="691920"/>
                <a:gridCol w="619200"/>
                <a:gridCol w="539640"/>
                <a:gridCol w="925560"/>
                <a:gridCol w="1005120"/>
                <a:gridCol w="846000"/>
                <a:gridCol w="893880"/>
              </a:tblGrid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 Casa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stalaçõe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oriedade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vulgação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stalaçõe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ç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orári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calizaçã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quipamento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quipamentos (self-service)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rviços Personalizado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rviços Complementare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217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BFD8-F9CD-496B-80AB-0FC03790B463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218" name="Group 606"/>
          <p:cNvGrpSpPr/>
          <p:nvPr/>
        </p:nvGrpSpPr>
        <p:grpSpPr>
          <a:xfrm>
            <a:off x="1981080" y="5943600"/>
            <a:ext cx="5790960" cy="368280"/>
            <a:chOff x="1981080" y="5943600"/>
            <a:chExt cx="5790960" cy="368280"/>
          </a:xfrm>
        </p:grpSpPr>
        <p:sp>
          <p:nvSpPr>
            <p:cNvPr id="219" name="Rectangle 596"/>
            <p:cNvSpPr/>
            <p:nvPr/>
          </p:nvSpPr>
          <p:spPr>
            <a:xfrm>
              <a:off x="4114440" y="6019920"/>
              <a:ext cx="228600" cy="2286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20" name="Rectangle 597"/>
            <p:cNvSpPr/>
            <p:nvPr/>
          </p:nvSpPr>
          <p:spPr>
            <a:xfrm>
              <a:off x="1981080" y="601992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21" name="Rectangle 598"/>
            <p:cNvSpPr/>
            <p:nvPr/>
          </p:nvSpPr>
          <p:spPr>
            <a:xfrm>
              <a:off x="3047760" y="60199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22" name="Text Box 599"/>
            <p:cNvSpPr/>
            <p:nvPr/>
          </p:nvSpPr>
          <p:spPr>
            <a:xfrm>
              <a:off x="2133360" y="59436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- Forte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23" name="Text Box 602"/>
            <p:cNvSpPr/>
            <p:nvPr/>
          </p:nvSpPr>
          <p:spPr>
            <a:xfrm>
              <a:off x="3276360" y="59436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- Médi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24" name="Text Box 603"/>
            <p:cNvSpPr/>
            <p:nvPr/>
          </p:nvSpPr>
          <p:spPr>
            <a:xfrm>
              <a:off x="4343040" y="5943600"/>
              <a:ext cx="8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- Frac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25" name="Text Box 604"/>
            <p:cNvSpPr/>
            <p:nvPr/>
          </p:nvSpPr>
          <p:spPr>
            <a:xfrm>
              <a:off x="5181480" y="59436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Possui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26" name="Text Box 605"/>
            <p:cNvSpPr/>
            <p:nvPr/>
          </p:nvSpPr>
          <p:spPr>
            <a:xfrm>
              <a:off x="6324480" y="59436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-  </a:t>
              </a: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Não Possui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Reacções Competitivas Esper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DAE0-EF8D-4BE9-A819-279C2572E211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295280"/>
          <a:ext cx="8229600" cy="4923000"/>
        </p:xfrm>
        <a:graphic>
          <a:graphicData uri="http://schemas.openxmlformats.org/drawingml/2006/table">
            <a:tbl>
              <a:tblPr/>
              <a:tblGrid>
                <a:gridCol w="1752480"/>
                <a:gridCol w="2590920"/>
                <a:gridCol w="3886200"/>
              </a:tblGrid>
              <a:tr h="77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ncipais Concorrent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posta Esperad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A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buClr>
                          <a:srgbClr val="ff0000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1" lang="en-US" sz="5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0000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ixa de preç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0000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mento das campanhas publicitárias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B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buClr>
                          <a:srgbClr val="ff0000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1" lang="en-US" sz="5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0000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ixa de preç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0000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argamento do horário de funcionament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44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X</a:t>
                      </a:r>
                      <a:endParaRPr b="1" lang="en-US" sz="4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44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X</a:t>
                      </a:r>
                      <a:endParaRPr b="1" lang="en-US" sz="4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44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X</a:t>
                      </a:r>
                      <a:endParaRPr b="1" lang="en-US" sz="4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2142720"/>
            <a:ext cx="8015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nálise da Envolvente/</a:t>
            </a:r>
            <a:br>
              <a:rPr sz="5400"/>
            </a:b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Diagnóstico</a:t>
            </a:r>
            <a:br>
              <a:rPr sz="5400"/>
            </a:b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Análise do Ambiente Externo e Inter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AEC4-F3BA-4D72-A53A-075428AA542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Sumário Executiv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 XPTO pretende ser uma empresa de prestação de serviços de (…), essencialmente com uma vertente </a:t>
            </a:r>
            <a:r>
              <a:rPr b="0" i="1" lang="pt-PT" sz="1600" spc="-1" strike="noStrike">
                <a:solidFill>
                  <a:srgbClr val="000000"/>
                </a:solidFill>
                <a:latin typeface="Times New Roman"/>
              </a:rPr>
              <a:t>self-service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, mas que também disponibiliza aos seus clientes serviços personalizados. Em ambos os casos, o principal objectivo é oferecer uma boa relação qualidade-preç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ara melhor aceitação destes, a XPTO</a:t>
            </a:r>
            <a:r>
              <a:rPr b="1" lang="pt-PT" sz="1800" spc="-1" strike="noStrike">
                <a:solidFill>
                  <a:srgbClr val="eeece1"/>
                </a:solidFill>
                <a:latin typeface="Monotype Corsiva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stá apostada em investir na concretização de alguns pontos considerados determinantes para o seu bom desempenho, dos quais se destacam: a sua </a:t>
            </a:r>
            <a:r>
              <a:rPr b="0" lang="pt-PT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calização,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junto ao Leclerc, em Chaves; </a:t>
            </a:r>
            <a:r>
              <a:rPr b="0" lang="pt-PT" sz="1600" spc="-1" strike="noStrike" u="sng">
                <a:solidFill>
                  <a:srgbClr val="000000"/>
                </a:solidFill>
                <a:uFillTx/>
                <a:latin typeface="Times New Roman"/>
              </a:rPr>
              <a:t>o preço dos serviços,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mais baixos que os da actual concorrência, </a:t>
            </a:r>
            <a:r>
              <a:rPr b="0" lang="pt-PT" sz="1600" spc="-1" strike="noStrike" u="sng">
                <a:solidFill>
                  <a:srgbClr val="000000"/>
                </a:solidFill>
                <a:uFillTx/>
                <a:latin typeface="Times New Roman"/>
              </a:rPr>
              <a:t>novas modalidades de prestação dos serviços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e uma maior </a:t>
            </a:r>
            <a:r>
              <a:rPr b="0" lang="pt-PT" sz="1600" spc="-1" strike="noStrike" u="sng">
                <a:solidFill>
                  <a:srgbClr val="000000"/>
                </a:solidFill>
                <a:uFillTx/>
                <a:latin typeface="Times New Roman"/>
              </a:rPr>
              <a:t>rapidez do serviç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 XPTO com o seu serviço inovador na zona de Chaves, pretende abranger maioritariamente as pessoas que executam a tarefa de (…) em casa, oferecendo serviços que a substituem. Pretende também concorrer com os actuais prestadores de serviços nessa área. O serviço de (…) self-service pretende abranger todo o mercado local, enquanto que o serviço personalizado tem como principal objectivo satisfazer as necessidades das pessoas com uma melhor situação financeira e ainda o mercado das empresas da regiã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BFC1-2B21-4750-B8CD-EA58DEC05B9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Análise do Sector e do Meio Envolvente</a:t>
            </a:r>
            <a:r>
              <a:rPr b="1" i="1" lang="pt-P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i="1" lang="pt-PT" sz="2200" spc="-1" strike="noStrike">
                <a:solidFill>
                  <a:srgbClr val="000000"/>
                </a:solidFill>
                <a:latin typeface="Times New Roman"/>
              </a:rPr>
              <a:t>Ambiente Extern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17400" y="1500120"/>
          <a:ext cx="7955280" cy="5197680"/>
        </p:xfrm>
        <a:graphic>
          <a:graphicData uri="http://schemas.openxmlformats.org/drawingml/2006/table">
            <a:tbl>
              <a:tblPr/>
              <a:tblGrid>
                <a:gridCol w="4586400"/>
                <a:gridCol w="336888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portunidades</a:t>
                      </a:r>
                      <a:endParaRPr b="1" lang="en-US" sz="2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eaças</a:t>
                      </a:r>
                      <a:endParaRPr b="1" lang="en-US" sz="2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72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xistência do serviço de (…) personalizado em Chaves</a:t>
                      </a:r>
                      <a:r>
                        <a:rPr b="0" i="1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zido número de concorrentes para o serviço de (…) self-service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ços bastante elevados para o serviço de (…) personalizad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vado número de potenciais cliente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scimento do número de pessoas a viver em apartamento, portanto, sem condições para realizar, em casa, esses serviç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istência dum único concorrente com o serviço de (…) self-service e com disponibilidade 24 h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ível aparecimento de seguidore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ível resistência do mercado a um serviço nov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inuição da procura nas épocas de Outono e Inverno, devido às condições climatéricas adversa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ábitos comodistas dos clientes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874F-4202-4ECB-8058-376291C611F1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Atractividade do Secto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714240" y="928800"/>
          <a:ext cx="7543800" cy="5084640"/>
        </p:xfrm>
        <a:graphic>
          <a:graphicData uri="http://schemas.openxmlformats.org/drawingml/2006/table">
            <a:tbl>
              <a:tblPr/>
              <a:tblGrid>
                <a:gridCol w="2381400"/>
                <a:gridCol w="1606680"/>
                <a:gridCol w="1514160"/>
                <a:gridCol w="2041560"/>
              </a:tblGrid>
              <a:tr h="73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erviço de  (…) Self-servic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erviço de (…) Personaliz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ub-serviço 1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ub-serviço 2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tencial de novas entrada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t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t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t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ssão de produtos substitut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t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édia/Alt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édia/Baix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der negocial dos fornecedor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édia/Baix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édia/Baix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édia/Baix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der negocial dos client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ix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ix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édi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Rivalidade entre concorrentes actuai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édia/Alt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édia/Baix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ix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Arial"/>
                        </a:rPr>
                        <a:t>Conclusão Fin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Arial"/>
                        </a:rPr>
                        <a:t>Atractividade Média/</a:t>
                      </a:r>
                      <a:r>
                        <a:rPr b="1" lang="pt-PT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Arial"/>
                        </a:rPr>
                        <a:t>Baix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Arial"/>
                        </a:rPr>
                        <a:t>Atractividade Média/</a:t>
                      </a:r>
                      <a:r>
                        <a:rPr b="1" lang="pt-PT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Arial"/>
                        </a:rPr>
                        <a:t>Alt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Arial"/>
                        </a:rPr>
                        <a:t>Atractividade</a:t>
                      </a:r>
                      <a:r>
                        <a:rPr b="1" lang="pt-PT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Arial"/>
                        </a:rPr>
                        <a:t> Alt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237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A611-1FDA-4678-A7F0-86643252729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Factores Críticos de Sucess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33520" y="1636560"/>
          <a:ext cx="8076960" cy="4535640"/>
        </p:xfrm>
        <a:graphic>
          <a:graphicData uri="http://schemas.openxmlformats.org/drawingml/2006/table">
            <a:tbl>
              <a:tblPr/>
              <a:tblGrid>
                <a:gridCol w="914400"/>
                <a:gridCol w="1066680"/>
                <a:gridCol w="1920960"/>
                <a:gridCol w="1965240"/>
                <a:gridCol w="2209680"/>
              </a:tblGrid>
              <a:tr h="1217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rviç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tores-chave 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ra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Valor par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ientes)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tores 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eti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Variáveis 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etição)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tores Críticos 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 Sucess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63000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to dos Serviç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aptação aos horários dos client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ário Alarg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exibi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de esper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aço disponíve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 parqueament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pidez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4AD6-6DEF-4BE5-93A0-A3FEF3D6579D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1" name="Text Box 337"/>
          <p:cNvSpPr/>
          <p:nvPr/>
        </p:nvSpPr>
        <p:spPr>
          <a:xfrm rot="16200000">
            <a:off x="361800" y="4184280"/>
            <a:ext cx="33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000099"/>
                </a:solidFill>
                <a:latin typeface="Times New Roman"/>
              </a:rPr>
              <a:t>Sub-serviço 1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2" name="Text Box 338"/>
          <p:cNvSpPr/>
          <p:nvPr/>
        </p:nvSpPr>
        <p:spPr>
          <a:xfrm rot="16200000">
            <a:off x="-616320" y="41821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ff"/>
                </a:solidFill>
                <a:latin typeface="Times New Roman"/>
              </a:rPr>
              <a:t>Self-service</a:t>
            </a:r>
            <a:endParaRPr b="1" lang="en-US" sz="2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Factores Críticos de Suces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3520" y="2057400"/>
          <a:ext cx="8001000" cy="3789360"/>
        </p:xfrm>
        <a:graphic>
          <a:graphicData uri="http://schemas.openxmlformats.org/drawingml/2006/table">
            <a:tbl>
              <a:tblPr/>
              <a:tblGrid>
                <a:gridCol w="912600"/>
                <a:gridCol w="1216080"/>
                <a:gridCol w="1736640"/>
                <a:gridCol w="1947960"/>
                <a:gridCol w="2187720"/>
              </a:tblGrid>
              <a:tr h="1295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rviç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tores-chave de compra (Valor para clientes)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tores de competição (Variáveis de competição)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tores Críticos de Sucess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001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aptação aos horários dos client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ário Alarg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exibi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9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edade dos serviç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erenciação do servi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ma de serviç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930A-6C5F-4B2B-894F-36323EF88737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6" name="Text Box 393"/>
          <p:cNvSpPr/>
          <p:nvPr/>
        </p:nvSpPr>
        <p:spPr>
          <a:xfrm rot="16200000">
            <a:off x="831600" y="4349520"/>
            <a:ext cx="236232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000099"/>
                </a:solidFill>
                <a:latin typeface="Times New Roman"/>
              </a:rPr>
              <a:t>Sub-serviço 2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7" name="Text Box 396"/>
          <p:cNvSpPr/>
          <p:nvPr/>
        </p:nvSpPr>
        <p:spPr>
          <a:xfrm rot="16200000">
            <a:off x="-257400" y="437256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ff"/>
                </a:solidFill>
                <a:latin typeface="Times New Roman"/>
              </a:rPr>
              <a:t>Self-service</a:t>
            </a:r>
            <a:endParaRPr b="1" lang="en-US" sz="2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Factores Críticos de Sucess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33520" y="1447920"/>
          <a:ext cx="8070840" cy="4800600"/>
        </p:xfrm>
        <a:graphic>
          <a:graphicData uri="http://schemas.openxmlformats.org/drawingml/2006/table">
            <a:tbl>
              <a:tblPr/>
              <a:tblGrid>
                <a:gridCol w="693720"/>
                <a:gridCol w="612720"/>
                <a:gridCol w="2197080"/>
                <a:gridCol w="2131920"/>
                <a:gridCol w="2435400"/>
              </a:tblGrid>
              <a:tr h="1304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rviç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tores-chave de compra (Valor para clientes)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tores de competição (Variáveis de competição)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tores Críticos 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 Sucess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795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to dos Serviç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edade e Qua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s Serviç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erenciação 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ma de serviç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o poup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ço Personaliz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idade do servi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oções e oferta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oções e oferta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panhas Promocionai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508D-3503-4719-B01B-CF1D786B27C7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1" name="Text Box 187"/>
          <p:cNvSpPr/>
          <p:nvPr/>
        </p:nvSpPr>
        <p:spPr>
          <a:xfrm rot="16200000">
            <a:off x="-698760" y="41598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ff"/>
                </a:solidFill>
                <a:latin typeface="Times New Roman"/>
              </a:rPr>
              <a:t>Personalizado</a:t>
            </a:r>
            <a:endParaRPr b="1" lang="en-US" sz="2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2142720"/>
            <a:ext cx="8015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presentação do Projecto/ do Negócio</a:t>
            </a:r>
            <a:br>
              <a:rPr sz="5400"/>
            </a:b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Objectivos, Factores de Inovação, Competências, Intento Estratégic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C3AC-39B9-4AFF-A1F3-FDB8CFCFFC10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A Nossa Miss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50920" y="1752480"/>
            <a:ext cx="8283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missão da XPTO é disponibilizar serviços de (…) que se diferenciam da concorrência essencialmente pelo baixo custo, mas também pela diversidade da oferta de uma gama de serviços de qualidade. Queremos conquistar e fidelizar os nossos clientes, fornecendo-lhes relações preço/qualidade mais favoráveis que os nossos concorrentes.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C431-0B75-40B8-8609-E3BF9A7D1310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Objectivo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DBFD-0B63-4517-99D0-E7F365FD422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04920" y="1143000"/>
          <a:ext cx="8458200" cy="5218200"/>
        </p:xfrm>
        <a:graphic>
          <a:graphicData uri="http://schemas.openxmlformats.org/drawingml/2006/table">
            <a:tbl>
              <a:tblPr/>
              <a:tblGrid>
                <a:gridCol w="1355760"/>
                <a:gridCol w="710244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jectivo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23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Financeir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quistar 30% da quota de mercado dos concorrentes, no 1.º ano de actividade, e   50%  no 2º ano de actividade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etrar num mercado novo - pessoas que efectuam actualmente o serviço de (…) nas suas próprias casas - que representará 60% - 70% dos nossos clientes totai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ortizar o investimento realizado num período de 6 anos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Não Financeir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cançar uma longevidade de 10 a 20 anos para a empresa;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ulgar e reforçar uma imagem de uma empresa que tem como objectivo principal satisfazer as necessidades dos cliente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ar um espaço atractivo e agradável para os nossos cliente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delizar todos os nossos clientes através de um serviço de qualidade, a um baixo cust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Forças e Fraquezas da Nossa Empresa</a:t>
            </a:r>
            <a:r>
              <a:rPr b="1" i="1" lang="pt-PT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100"/>
            </a:br>
            <a:r>
              <a:rPr b="1" i="1" lang="pt-PT" sz="2200" spc="-1" strike="noStrike">
                <a:solidFill>
                  <a:srgbClr val="000000"/>
                </a:solidFill>
                <a:latin typeface="Times New Roman"/>
              </a:rPr>
              <a:t>Ambiente Intern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14240" y="1571760"/>
          <a:ext cx="8077320" cy="4495680"/>
        </p:xfrm>
        <a:graphic>
          <a:graphicData uri="http://schemas.openxmlformats.org/drawingml/2006/table">
            <a:tbl>
              <a:tblPr/>
              <a:tblGrid>
                <a:gridCol w="4110120"/>
                <a:gridCol w="396720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ça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aqueza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0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6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vada gama de serviços reunidos num só espa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6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ta de serviços únic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6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ços idênticos à concorrência, a preços mais baix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6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zido tempo de espera, dada o bom dimensionamento das instalaçõe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6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zação das instalações em local estratégic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A0BD-E605-4199-B4B5-8BC494614BD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Competências Centrai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Qualidade e rapidez do serviç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Localização da XPT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Baixo custo para o clien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Dificuldade de Imit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Apesar de ser previsível o aparecimento de seguidores, a nossa localização, pioneirismo e o marketing agressivo terão um forte impacto no mercado.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6EEA-762F-4338-8477-96C88C320B02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Sumário Execu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E643-E843-4AA6-BB2D-004C5527486B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5228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 criação da XPTO está dependente de um financiamento de aproximadamente €, dos quais % são obtidos através de um empréstimo bancário a 10 anos e os restantes % são obtidos através de um subsídio a fundo perdido do Programa ILE. É importante ainda referir, que apesar do elevado investimento, o projecto apresenta um prazo de recuperação de anos e indicadores de rendibilidade (</a:t>
            </a:r>
            <a:r>
              <a:rPr b="0" i="1" lang="pt-PT" sz="1600" spc="-1" strike="noStrike">
                <a:solidFill>
                  <a:srgbClr val="000000"/>
                </a:solidFill>
                <a:latin typeface="Times New Roman"/>
              </a:rPr>
              <a:t>TIR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pt-PT" sz="1600" spc="-1" strike="noStrike">
                <a:solidFill>
                  <a:srgbClr val="000000"/>
                </a:solidFill>
                <a:latin typeface="Times New Roman"/>
              </a:rPr>
              <a:t>VAL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) elevados.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marL="343080" indent="-343080" algn="just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ste projecto será concretizado por dois jovens empreendedores muito ambiciosos e com vontade de vingar no mundo empresarial nacional, e que acreditam profundamente no sucesso e viabilidade deste projecto.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Factores de Inovação do Serviç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Descrição do Serviç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Três zonas de prestação de serviço em vez das tradicionais uma ou dua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Serviço self-service e serviço personaliz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Benefícios para os clien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eços mais baixos que os concorrent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Instalações adequada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Rapidez e Qualidade do serviç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Grande superfície nas imediaçõ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Grande variedade de serviços, sendo alguns deles inovado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D437-8E13-47AE-879C-75B196290813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Factores de Inovação do Serviç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Diferenciação face aos concorrent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Localizaçã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Horário de funcionament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Instalações mais adequadas para a utilização dos serviço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eços mais acessívei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Maior gama de serviç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4030-8DD1-46F0-8B8C-67F16396044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7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Intento Estratégico do Negó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1142640"/>
            <a:ext cx="86756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O intento estratégico da XPTO é demarcar-se da concorrência pela diferenciação e por praticar preços abaixo da média do sector,  com custos operacionais igualmente abaixo da méd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Diferenciação face aos concorrentes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6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 u="sng">
                <a:solidFill>
                  <a:srgbClr val="000000"/>
                </a:solidFill>
                <a:uFillTx/>
                <a:latin typeface="Times New Roman"/>
              </a:rPr>
              <a:t>Características e desempenho do serviço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, já que, permite tempos de realização mais rápid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rviços complementares prestados pela empresa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- self-service, personalizad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calização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, já que, permite atingir um maior número de potenciais clientes (clientes da grande superfíci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A425-DE0C-4C2B-968D-E39A9DDB6843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nto Estratégico – Serviço de (…) </a:t>
            </a:r>
            <a:r>
              <a:rPr b="1" i="1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lf-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C32B-7616-4811-A67E-BFA3878AA71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80880" y="1447920"/>
          <a:ext cx="8153640" cy="4335480"/>
        </p:xfrm>
        <a:graphic>
          <a:graphicData uri="http://schemas.openxmlformats.org/drawingml/2006/table">
            <a:tbl>
              <a:tblPr/>
              <a:tblGrid>
                <a:gridCol w="2089440"/>
                <a:gridCol w="993600"/>
                <a:gridCol w="1392120"/>
                <a:gridCol w="1490760"/>
                <a:gridCol w="1093680"/>
                <a:gridCol w="1094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ctores Críticos de Sucess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etências Centrai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ust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Localizaçã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Flexibilidade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Rapidez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Elevada Gama de Serviço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Localiz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Rapidez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4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Baixo Cust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4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0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Qua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4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4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pSp>
        <p:nvGrpSpPr>
          <p:cNvPr id="278" name="Group 1265"/>
          <p:cNvGrpSpPr/>
          <p:nvPr/>
        </p:nvGrpSpPr>
        <p:grpSpPr>
          <a:xfrm>
            <a:off x="457200" y="5943600"/>
            <a:ext cx="8153280" cy="307080"/>
            <a:chOff x="457200" y="5943600"/>
            <a:chExt cx="8153280" cy="307080"/>
          </a:xfrm>
        </p:grpSpPr>
        <p:sp>
          <p:nvSpPr>
            <p:cNvPr id="279" name="Rectangle 1262"/>
            <p:cNvSpPr/>
            <p:nvPr/>
          </p:nvSpPr>
          <p:spPr>
            <a:xfrm>
              <a:off x="457200" y="5943600"/>
              <a:ext cx="5335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80" name="Text Box 1263"/>
            <p:cNvSpPr/>
            <p:nvPr/>
          </p:nvSpPr>
          <p:spPr>
            <a:xfrm>
              <a:off x="838080" y="59436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Área de adequação estratégica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81" name="Text Box 1264"/>
            <p:cNvSpPr/>
            <p:nvPr/>
          </p:nvSpPr>
          <p:spPr>
            <a:xfrm>
              <a:off x="5181480" y="5943600"/>
              <a:ext cx="342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Pontuação: Insuficiente (1) a Excelente (5)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nto Estratégico – </a:t>
            </a:r>
            <a:r>
              <a:rPr b="1" i="1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rviço de (…) Personaliz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423A-AFDB-4219-97E1-217EC6236D6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80880" y="1379520"/>
          <a:ext cx="8229600" cy="4487760"/>
        </p:xfrm>
        <a:graphic>
          <a:graphicData uri="http://schemas.openxmlformats.org/drawingml/2006/table">
            <a:tbl>
              <a:tblPr/>
              <a:tblGrid>
                <a:gridCol w="2108160"/>
                <a:gridCol w="1003320"/>
                <a:gridCol w="1405080"/>
                <a:gridCol w="1351080"/>
                <a:gridCol w="1258920"/>
                <a:gridCol w="110304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ctores Críticos de Sucess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etências Centrai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ust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Localizaçã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Qualidade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ampanhas Promocionai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Gama de Serviço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Localiz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Rapidez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4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Baixo Cust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3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4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Qua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4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pSp>
        <p:nvGrpSpPr>
          <p:cNvPr id="285" name="Group 1080"/>
          <p:cNvGrpSpPr/>
          <p:nvPr/>
        </p:nvGrpSpPr>
        <p:grpSpPr>
          <a:xfrm>
            <a:off x="457200" y="5943600"/>
            <a:ext cx="8153280" cy="307080"/>
            <a:chOff x="457200" y="5943600"/>
            <a:chExt cx="8153280" cy="307080"/>
          </a:xfrm>
        </p:grpSpPr>
        <p:sp>
          <p:nvSpPr>
            <p:cNvPr id="286" name="Rectangle 1081"/>
            <p:cNvSpPr/>
            <p:nvPr/>
          </p:nvSpPr>
          <p:spPr>
            <a:xfrm>
              <a:off x="457200" y="5943600"/>
              <a:ext cx="5335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87" name="Text Box 1082"/>
            <p:cNvSpPr/>
            <p:nvPr/>
          </p:nvSpPr>
          <p:spPr>
            <a:xfrm>
              <a:off x="838080" y="59436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Área de adequação estratégica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88" name="Text Box 1083"/>
            <p:cNvSpPr/>
            <p:nvPr/>
          </p:nvSpPr>
          <p:spPr>
            <a:xfrm>
              <a:off x="5181480" y="5943600"/>
              <a:ext cx="342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Pontuação: Insuficiente (1) a Excelente (5)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3CB0-67FD-4091-AE23-5BE1A3CC8E49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2071800"/>
            <a:ext cx="9144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presentação do Projecto/ </a:t>
            </a:r>
            <a:endParaRPr b="1" lang="en-US" sz="54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do Negócio </a:t>
            </a:r>
            <a:endParaRPr b="1" lang="en-US" sz="54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Plano de Marketing</a:t>
            </a:r>
            <a:endParaRPr b="1" lang="en-US" sz="3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Critérios de Segment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Demográfic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Masculino e Feminin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Mais de 18 an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Geográfic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mpresas da região de Chav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Residentes de Chaves e arredor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Sociais e Económic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Todo o tipo de rendiment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Diversos estratos sociai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essoas com pouca disponibilidade de temp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essoas com preocupações sociais/ambienta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EC56-6B91-4E7D-AC47-84B988DC109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ercados Al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Mercado alvo prioritário do serviço de self-servic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Estudan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studantes do ensino secundário e superior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Idade entre 18 – 26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Residentes em Chaves e arredor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studantes universitários deslocad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Baixo rendiment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mbos os sex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Grupos informai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essoas com pouca disponibilidade de temp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 partir dos 18 an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Residentes em Chaves e arredor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Todo o tipo de rendiment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mbos os sex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4A4D-35CD-4B1E-A6F2-53E0AC9CD5B8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ercados Al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Mercado alvo prioritário do serviço personalizad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Grupos informai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essoas com pouca disponibilidad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 partir dos 25 an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Residentes em Chaves e arredor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essoas com rendimentos médios/elevad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mbos os sex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1001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Entidades privad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mpresas de Chaves e arredo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FB91-0024-44DE-B702-D87C0F76928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406440" y="5054760"/>
            <a:ext cx="3175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Fontes de Merc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14300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Serviços concorrentes da mesma categor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Opção estratégic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ncorrência directa: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onquistar o maior número de clientes dos nossos concorr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- Particular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- Empres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Outras categorias de serviç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Opção estratégic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ncorrência alargad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onquista de um novo mercado: pessoas que realizam o serviço em ca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rescimento da procura primár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umento da procura devido à existência de serviços complementa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B0C5-EDCF-48CA-A4F0-DC099FF2C391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Caracterização da XP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09480" y="1600200"/>
            <a:ext cx="79250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A implantação e desenvolvimento da XPTO tem como finalida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5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5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55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Tentar aproveitar uma oportunidade de mercado para a prestação dum conjunto de  serviços em duas modalidades principais: serviço de (…) self-service e serviço de (…) personalizad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55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Oferecer esses serviços a um custo baixo e com boa qualidad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55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Tentar abranger a maior quota de mercado possíve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55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Satisfazer o cliente, oferecendo uma gama diferenciada e inovadora de serviços, com rapidez e numa boa localizaçã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8E67-AD1E-4961-B53E-91CAD49B37B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Eixos de Posicion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80880" y="1143000"/>
          <a:ext cx="8291520" cy="5356080"/>
        </p:xfrm>
        <a:graphic>
          <a:graphicData uri="http://schemas.openxmlformats.org/drawingml/2006/table">
            <a:tbl>
              <a:tblPr/>
              <a:tblGrid>
                <a:gridCol w="1873440"/>
                <a:gridCol w="1655640"/>
                <a:gridCol w="4762440"/>
              </a:tblGrid>
              <a:tr h="66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ixos de Posicionament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ctores de Diferencia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863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idez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idez do serviço self-service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ári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ário alargado para o serviço personalizado (9:00 h – 23:00 h);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ponibilidade 24 horas para o self-service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çõe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ra-estruturas adequadas para os serviç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ra-estruturas cobertas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za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do na cidade e perto de uma grande superfície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que de estacionamento ampl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 acessibilidade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 de Prestação do Serviç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 de grande eficiência no uso de energia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ço personalizado único na região.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dade 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dade das instalaçõe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dade do serviç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380F-A425-4196-BC86-541FD54E3F79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Eixos de Posicion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80880" y="1600200"/>
          <a:ext cx="8363160" cy="4191120"/>
        </p:xfrm>
        <a:graphic>
          <a:graphicData uri="http://schemas.openxmlformats.org/drawingml/2006/table">
            <a:tbl>
              <a:tblPr/>
              <a:tblGrid>
                <a:gridCol w="1656000"/>
                <a:gridCol w="1512720"/>
                <a:gridCol w="5194440"/>
              </a:tblGrid>
              <a:tr h="113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ixos de Posicionament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ctores de Diferencia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698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6</a:t>
                      </a:r>
                      <a:endParaRPr b="1" lang="en-US" sz="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Imagem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ractividade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ço atractivo e muito funcional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ocupaçõe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lógica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pamento de tratamento dos resíduos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Preç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ço de Venda 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ixo custo dos diversos serviços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CB25-70C0-4CBA-B871-114E1A38B7F2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Importância dos Factores de Diferenci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Marcador de Posição do Número do Diapositivo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6779-5DD0-4C20-ACAD-1CC7E10EFCDB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12" name="Object 1030"/>
          <p:cNvGraphicFramePr/>
          <p:nvPr/>
        </p:nvGraphicFramePr>
        <p:xfrm>
          <a:off x="285840" y="928800"/>
          <a:ext cx="8254800" cy="507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928800"/>
                    <a:ext cx="825480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Text Box 1031"/>
          <p:cNvSpPr/>
          <p:nvPr/>
        </p:nvSpPr>
        <p:spPr>
          <a:xfrm>
            <a:off x="152280" y="6019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Exemplo: Chaves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arketing-M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D08A-1D21-469E-B7A2-5C63D71BFC99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80880" y="1549440"/>
          <a:ext cx="8534520" cy="39877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838440"/>
                <a:gridCol w="914400"/>
                <a:gridCol w="914400"/>
                <a:gridCol w="914400"/>
                <a:gridCol w="990360"/>
                <a:gridCol w="914400"/>
                <a:gridCol w="990720"/>
              </a:tblGrid>
              <a:tr h="4723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rcados-Segmentos de Clientes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ticular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presa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ços a Prestar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ix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ixa-Médi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-Alt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ras Empresa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lf-Servic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-serviço 1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-serviço 2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631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sonaliz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318" name="Group 362"/>
          <p:cNvGrpSpPr/>
          <p:nvPr/>
        </p:nvGrpSpPr>
        <p:grpSpPr>
          <a:xfrm>
            <a:off x="457200" y="5791320"/>
            <a:ext cx="7620120" cy="381600"/>
            <a:chOff x="457200" y="5791320"/>
            <a:chExt cx="7620120" cy="381600"/>
          </a:xfrm>
        </p:grpSpPr>
        <p:sp>
          <p:nvSpPr>
            <p:cNvPr id="319" name="Rectangle 343"/>
            <p:cNvSpPr/>
            <p:nvPr/>
          </p:nvSpPr>
          <p:spPr>
            <a:xfrm>
              <a:off x="457200" y="586728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20" name="Text Box 347"/>
            <p:cNvSpPr/>
            <p:nvPr/>
          </p:nvSpPr>
          <p:spPr>
            <a:xfrm>
              <a:off x="685800" y="57913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- Sem potencial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21" name="Rectangle 345"/>
            <p:cNvSpPr/>
            <p:nvPr/>
          </p:nvSpPr>
          <p:spPr>
            <a:xfrm>
              <a:off x="3276720" y="591192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22" name="Text Box 348"/>
            <p:cNvSpPr/>
            <p:nvPr/>
          </p:nvSpPr>
          <p:spPr>
            <a:xfrm>
              <a:off x="3505320" y="58356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- Com potencial médio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23" name="Rectangle 346"/>
            <p:cNvSpPr/>
            <p:nvPr/>
          </p:nvSpPr>
          <p:spPr>
            <a:xfrm>
              <a:off x="6324480" y="5867280"/>
              <a:ext cx="228600" cy="2286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24" name="Text Box 349"/>
            <p:cNvSpPr/>
            <p:nvPr/>
          </p:nvSpPr>
          <p:spPr>
            <a:xfrm>
              <a:off x="6553080" y="57913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- Com potencial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reços e Promoções de Ven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Estratégia de Preç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 preço do nosso serviço, irá ser fixado em função de uma estratégica que consist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nálise dos preços da concorrênc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aticar preços mais baixos que a concorrênc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racterísticas distintivas face à concorrênci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Instalaçõ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Novos serviç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crescentar valor ao serviço atravé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Boa qualidade de serviç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Satisfação das necessidades dos client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Boa campanha de marketing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1AC5-8695-4030-A885-20F9E9750940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reços de Vendas dos Concor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4866-5CDE-4598-B301-27AA9EAC2FD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57200" y="1143000"/>
          <a:ext cx="8077320" cy="5067360"/>
        </p:xfrm>
        <a:graphic>
          <a:graphicData uri="http://schemas.openxmlformats.org/drawingml/2006/table">
            <a:tbl>
              <a:tblPr/>
              <a:tblGrid>
                <a:gridCol w="1828800"/>
                <a:gridCol w="3048120"/>
                <a:gridCol w="3200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acterística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82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A</a:t>
                      </a:r>
                      <a:endParaRPr b="1" lang="en-US" sz="2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B</a:t>
                      </a:r>
                      <a:endParaRPr b="1" lang="en-US" sz="2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</a:t>
                      </a:r>
                      <a:endParaRPr b="1" lang="en-US" sz="2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reços de Vendas dos Concor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6B0E-4D11-4251-9F5C-1F182882156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80880" y="1066680"/>
          <a:ext cx="8305920" cy="4627800"/>
        </p:xfrm>
        <a:graphic>
          <a:graphicData uri="http://schemas.openxmlformats.org/drawingml/2006/table">
            <a:tbl>
              <a:tblPr/>
              <a:tblGrid>
                <a:gridCol w="1879560"/>
                <a:gridCol w="3135600"/>
                <a:gridCol w="329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acterística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92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</a:t>
                      </a:r>
                      <a:endParaRPr b="1" lang="en-US" sz="2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E</a:t>
                      </a:r>
                      <a:endParaRPr b="1" lang="en-US" sz="2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0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F</a:t>
                      </a:r>
                      <a:endParaRPr b="1" lang="en-US" sz="2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reços de Vendas da XP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4563-3B5E-464A-94DD-C2FA11C33E1F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33520" y="1371600"/>
          <a:ext cx="8153280" cy="4800600"/>
        </p:xfrm>
        <a:graphic>
          <a:graphicData uri="http://schemas.openxmlformats.org/drawingml/2006/table">
            <a:tbl>
              <a:tblPr/>
              <a:tblGrid>
                <a:gridCol w="1523880"/>
                <a:gridCol w="3276720"/>
                <a:gridCol w="335268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acterística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2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400" spc="-1" strike="noStrike">
                          <a:solidFill>
                            <a:srgbClr val="eeece1"/>
                          </a:solidFill>
                          <a:latin typeface="Arial"/>
                          <a:ea typeface="Arial"/>
                        </a:rPr>
                        <a:t>XPTO</a:t>
                      </a:r>
                      <a:endParaRPr b="1" lang="en-US" sz="2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imidade do Lecrerc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f-service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bertura das instalaçõe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que de estacionament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pamentos 1, 2, 3 e 4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PT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erviço Personalizado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erviço</a:t>
                      </a:r>
                      <a:r>
                        <a:rPr b="1" lang="pt-PT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self-service: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-serviço 1 – 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-serviço 2 –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 u="sng">
                <a:solidFill>
                  <a:srgbClr val="000000"/>
                </a:solidFill>
                <a:uFillTx/>
                <a:latin typeface="Times New Roman"/>
              </a:rPr>
              <a:t>Distribuição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Estratégia de distribuiçã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Distribuição directa – o serviço é vendido directamente ao consumidor final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Razões da escolha da estratégia de distribuiçã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O serviço não permite a existência de canais de distribuiçã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É consumido no momento da comp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319C-B947-4059-8C70-F217E03566E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 u="sng">
                <a:solidFill>
                  <a:srgbClr val="000000"/>
                </a:solidFill>
                <a:uFillTx/>
                <a:latin typeface="Times New Roman"/>
              </a:rPr>
              <a:t>Instalaçõ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A infra-estrutura tem um visual muito atractivo e é sobretudo muito funciona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ermite a reestruturação do espaço e do tipo de serviços prestado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Terminado o contrato há a possibilidade de: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Remoção das instalações sem ter encargos elevad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Renovação do contrat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quisição da infra-estrutura por outras empresas interessad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11D5-32B3-4996-945C-2E1AC301B50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2142720"/>
            <a:ext cx="8015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nálise da Envolvente/</a:t>
            </a:r>
            <a:br>
              <a:rPr sz="5400"/>
            </a:b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Diagnóstico</a:t>
            </a:r>
            <a:br>
              <a:rPr sz="5400"/>
            </a:b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Análise de Merc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7654-9023-478D-9976-AF3615092F6A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Força de Ven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57120" y="1371240"/>
            <a:ext cx="840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Os principais vendedores do serviço são os dois sócios-gerentes e</a:t>
            </a:r>
            <a:r>
              <a:rPr b="0" lang="pt-P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os dois colaboradores, através do contacto directo com os clientes. Eles deve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Ter um conhecimento profundo do serviço prestad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nhecer os objectivos da empres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nhecer os potenciais cliente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Avaliar em situações pontuais o nível de satisfação dos clien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9032-BE2D-4FC2-AB89-535B5B0D80C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ix da Comunic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8576-00A3-49F9-8289-32F68ACE142B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348" name="Group 31"/>
          <p:cNvGrpSpPr/>
          <p:nvPr/>
        </p:nvGrpSpPr>
        <p:grpSpPr>
          <a:xfrm>
            <a:off x="457200" y="1828800"/>
            <a:ext cx="8153280" cy="4038480"/>
            <a:chOff x="457200" y="1828800"/>
            <a:chExt cx="8153280" cy="4038480"/>
          </a:xfrm>
        </p:grpSpPr>
        <p:sp>
          <p:nvSpPr>
            <p:cNvPr id="349" name="Rectangle 4"/>
            <p:cNvSpPr/>
            <p:nvPr/>
          </p:nvSpPr>
          <p:spPr>
            <a:xfrm>
              <a:off x="3733920" y="1828800"/>
              <a:ext cx="1828800" cy="8380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Mix de 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Comunicação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50" name="Rectangle 6"/>
            <p:cNvSpPr/>
            <p:nvPr/>
          </p:nvSpPr>
          <p:spPr>
            <a:xfrm>
              <a:off x="1523880" y="3505320"/>
              <a:ext cx="1828800" cy="8380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Media 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51" name="Rectangle 8"/>
            <p:cNvSpPr/>
            <p:nvPr/>
          </p:nvSpPr>
          <p:spPr>
            <a:xfrm>
              <a:off x="457200" y="5181480"/>
              <a:ext cx="160020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Radio 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52" name="Rectangle 11"/>
            <p:cNvSpPr/>
            <p:nvPr/>
          </p:nvSpPr>
          <p:spPr>
            <a:xfrm>
              <a:off x="2514600" y="5181480"/>
              <a:ext cx="160020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Imprensa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53" name="Line 14"/>
            <p:cNvSpPr/>
            <p:nvPr/>
          </p:nvSpPr>
          <p:spPr>
            <a:xfrm>
              <a:off x="2438280" y="4343400"/>
              <a:ext cx="0" cy="3049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54" name="Line 15"/>
            <p:cNvSpPr/>
            <p:nvPr/>
          </p:nvSpPr>
          <p:spPr>
            <a:xfrm>
              <a:off x="1371600" y="4648320"/>
              <a:ext cx="20574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55" name="Line 16"/>
            <p:cNvSpPr/>
            <p:nvPr/>
          </p:nvSpPr>
          <p:spPr>
            <a:xfrm>
              <a:off x="1371600" y="4648320"/>
              <a:ext cx="0" cy="3808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3429000" y="4648320"/>
              <a:ext cx="0" cy="3808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57" name="Rectangle 20"/>
            <p:cNvSpPr/>
            <p:nvPr/>
          </p:nvSpPr>
          <p:spPr>
            <a:xfrm>
              <a:off x="6019920" y="3505320"/>
              <a:ext cx="1828800" cy="8380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Outros Canais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58" name="Rectangle 21"/>
            <p:cNvSpPr/>
            <p:nvPr/>
          </p:nvSpPr>
          <p:spPr>
            <a:xfrm>
              <a:off x="4952880" y="5181480"/>
              <a:ext cx="160020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Marketing 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Directo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59" name="Rectangle 22"/>
            <p:cNvSpPr/>
            <p:nvPr/>
          </p:nvSpPr>
          <p:spPr>
            <a:xfrm>
              <a:off x="7010280" y="5181480"/>
              <a:ext cx="160020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Relações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Públicas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0" name="Line 23"/>
            <p:cNvSpPr/>
            <p:nvPr/>
          </p:nvSpPr>
          <p:spPr>
            <a:xfrm>
              <a:off x="6934320" y="4343400"/>
              <a:ext cx="0" cy="3049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1" name="Line 24"/>
            <p:cNvSpPr/>
            <p:nvPr/>
          </p:nvSpPr>
          <p:spPr>
            <a:xfrm>
              <a:off x="5867280" y="4648320"/>
              <a:ext cx="20574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2" name="Line 25"/>
            <p:cNvSpPr/>
            <p:nvPr/>
          </p:nvSpPr>
          <p:spPr>
            <a:xfrm>
              <a:off x="5867280" y="4648320"/>
              <a:ext cx="0" cy="3808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3" name="Line 26"/>
            <p:cNvSpPr/>
            <p:nvPr/>
          </p:nvSpPr>
          <p:spPr>
            <a:xfrm>
              <a:off x="7924680" y="4648320"/>
              <a:ext cx="0" cy="3808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4" name="Line 27"/>
            <p:cNvSpPr/>
            <p:nvPr/>
          </p:nvSpPr>
          <p:spPr>
            <a:xfrm>
              <a:off x="4648320" y="2666880"/>
              <a:ext cx="0" cy="3049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5" name="Line 28"/>
            <p:cNvSpPr/>
            <p:nvPr/>
          </p:nvSpPr>
          <p:spPr>
            <a:xfrm>
              <a:off x="2514600" y="2971800"/>
              <a:ext cx="449568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6" name="Line 29"/>
            <p:cNvSpPr/>
            <p:nvPr/>
          </p:nvSpPr>
          <p:spPr>
            <a:xfrm>
              <a:off x="2514600" y="2971800"/>
              <a:ext cx="0" cy="3808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7" name="Line 30"/>
            <p:cNvSpPr/>
            <p:nvPr/>
          </p:nvSpPr>
          <p:spPr>
            <a:xfrm>
              <a:off x="7010280" y="2971800"/>
              <a:ext cx="0" cy="3808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ix da Comunic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12193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A nossa estratégia de comunicação tem como principal objectivo dar a conhecer a XPTO à  população residente em Chaves e  arredores.  Assim, a nossa estratégia de comunicação passará por utilizar os seguintes canai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Os </a:t>
            </a:r>
            <a:r>
              <a:rPr b="0" i="1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dia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Imprensa – anúncios no jornal a Voz de Trás-os-Montes, durante os primeiros 3 mes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Rádio – </a:t>
            </a:r>
            <a:r>
              <a:rPr b="0" i="1" lang="pt-PT" sz="1600" spc="-1" strike="noStrike">
                <a:solidFill>
                  <a:srgbClr val="000000"/>
                </a:solidFill>
                <a:latin typeface="Times New Roman"/>
              </a:rPr>
              <a:t>spots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ublicitários na rádio Voz do Alto Tâmega, durante os primeiros 3 meses de início de actividad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Outros canais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Marketing Directo – a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través da distribuição de panfletos através dos correios e de forma directa em locais estratégicos, caso do Lecler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Relações Públicas – contactos pessoais com as empresas, no sentido de divulgar os nossos serviç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4407-CA6F-4A5E-8373-31BB8661E93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Investimento em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5EA1-9696-4747-B883-C2C661A4C169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304920" y="1154160"/>
          <a:ext cx="8458200" cy="5176800"/>
        </p:xfrm>
        <a:graphic>
          <a:graphicData uri="http://schemas.openxmlformats.org/drawingml/2006/table">
            <a:tbl>
              <a:tblPr/>
              <a:tblGrid>
                <a:gridCol w="1523880"/>
                <a:gridCol w="1828800"/>
                <a:gridCol w="914400"/>
                <a:gridCol w="1066680"/>
                <a:gridCol w="1067040"/>
                <a:gridCol w="990360"/>
                <a:gridCol w="106704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vestiment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blicidade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.U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nt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nt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Rádio Voz do Alto Tâmeg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anúncios diários de 30’’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mese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ese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A Voz de Trás-os-Montes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¼ de página numa página impar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semana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Grafism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ação de logo tip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oração de 1 Viatur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la Banner 3000x800 mm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tões Visi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tões Cliente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fletos e Composição de Flyer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Line 203"/>
          <p:cNvSpPr/>
          <p:nvPr/>
        </p:nvSpPr>
        <p:spPr>
          <a:xfrm>
            <a:off x="304920" y="1143000"/>
            <a:ext cx="1523880" cy="7621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romoções de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2522-F188-44F1-97F2-A119D0C50A0F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57200" y="1523880"/>
          <a:ext cx="8077320" cy="4496040"/>
        </p:xfrm>
        <a:graphic>
          <a:graphicData uri="http://schemas.openxmlformats.org/drawingml/2006/table">
            <a:tbl>
              <a:tblPr/>
              <a:tblGrid>
                <a:gridCol w="1447920"/>
                <a:gridCol w="2971800"/>
                <a:gridCol w="1218960"/>
                <a:gridCol w="1128960"/>
                <a:gridCol w="1309680"/>
              </a:tblGrid>
              <a:tr h="60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moçõ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nt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.U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03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Personaliz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ta dum serviço ao fim de 15 efectuad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Self-servic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ub-serviço 1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ta dum serviço ao fim de 10 efectuados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Self-servic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ub-serviço 2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onto de 50% no serviço ao fim de 10 efectuad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2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revisão de Vendas</a:t>
            </a:r>
            <a:r>
              <a:rPr b="1" i="1" lang="pt-P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2DFA-37E5-480C-8DAA-EE7C81BF87D0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80880" y="1357200"/>
          <a:ext cx="8305920" cy="481644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vis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nt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ço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Mens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Anu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74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Self-service 1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0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3% da capacidade máxima)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Self-service 2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Personaliz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0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2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revisão de Ven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4184-374C-4864-9E58-DAB53D686408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80880" y="1360440"/>
          <a:ext cx="8305920" cy="4811760"/>
        </p:xfrm>
        <a:graphic>
          <a:graphicData uri="http://schemas.openxmlformats.org/drawingml/2006/table">
            <a:tbl>
              <a:tblPr/>
              <a:tblGrid>
                <a:gridCol w="1660680"/>
                <a:gridCol w="1463760"/>
                <a:gridCol w="1858680"/>
                <a:gridCol w="1662120"/>
                <a:gridCol w="166068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vis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o 2008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o 2009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o 201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Ano Cruzeiro)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o 2011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Self-service 1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Self-service 2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Personaliz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61.200 €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41.280 €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93.271 €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98.296 €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BEF5-60E3-47E9-B7C9-0FA5BE359CE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0" y="2000160"/>
            <a:ext cx="9144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presentação do Projecto/ </a:t>
            </a:r>
            <a:endParaRPr b="1" lang="en-US" sz="54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do Negócio </a:t>
            </a:r>
            <a:endParaRPr b="1" lang="en-US" sz="54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Recursos Humanos</a:t>
            </a:r>
            <a:endParaRPr b="1" lang="en-US" sz="3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Competências da Equipa de Gest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CB87-7166-4BFC-92A6-6AE5B3E46BF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428760" y="2643120"/>
          <a:ext cx="8216640" cy="1432080"/>
        </p:xfrm>
        <a:graphic>
          <a:graphicData uri="http://schemas.openxmlformats.org/drawingml/2006/table">
            <a:tbl>
              <a:tblPr/>
              <a:tblGrid>
                <a:gridCol w="1828800"/>
                <a:gridCol w="3251160"/>
                <a:gridCol w="3136680"/>
              </a:tblGrid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g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m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João  Sant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ócio-Gerente e Director Financeir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enciatura em …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Ana Gonçalv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ócio-Gerente e Director de Marketing e Operaçõe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enciatura em ….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Estrutura Organiz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A8CC-B97A-4A85-A680-D3EFD7237B99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391" name="Group 118"/>
          <p:cNvGrpSpPr/>
          <p:nvPr/>
        </p:nvGrpSpPr>
        <p:grpSpPr>
          <a:xfrm>
            <a:off x="4071960" y="2000160"/>
            <a:ext cx="3962160" cy="2285640"/>
            <a:chOff x="4071960" y="2000160"/>
            <a:chExt cx="3962160" cy="2285640"/>
          </a:xfrm>
        </p:grpSpPr>
        <p:sp>
          <p:nvSpPr>
            <p:cNvPr id="392" name="Rectangle 98"/>
            <p:cNvSpPr/>
            <p:nvPr/>
          </p:nvSpPr>
          <p:spPr>
            <a:xfrm>
              <a:off x="4566960" y="2000160"/>
              <a:ext cx="3042720" cy="8571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000" spc="-1" strike="noStrike">
                  <a:solidFill>
                    <a:srgbClr val="ffffff"/>
                  </a:solidFill>
                  <a:latin typeface="Times New Roman"/>
                </a:rPr>
                <a:t>Sócios-Gerentes</a:t>
              </a:r>
              <a:endParaRPr b="1" lang="en-US" sz="20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pt-PT" sz="1400" spc="-1" strike="noStrike">
                  <a:solidFill>
                    <a:srgbClr val="ffffff"/>
                  </a:solidFill>
                  <a:latin typeface="Times New Roman"/>
                </a:rPr>
                <a:t>Director de Marketing e Operaçõe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pt-PT" sz="1400" spc="-1" strike="noStrike">
                  <a:solidFill>
                    <a:srgbClr val="ffffff"/>
                  </a:solidFill>
                  <a:latin typeface="Times New Roman"/>
                </a:rPr>
                <a:t>Director Financeir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93" name="Rectangle 99"/>
            <p:cNvSpPr/>
            <p:nvPr/>
          </p:nvSpPr>
          <p:spPr>
            <a:xfrm>
              <a:off x="4071960" y="3643200"/>
              <a:ext cx="1698120" cy="6426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Funcionário A 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94" name="Rectangle 100"/>
            <p:cNvSpPr/>
            <p:nvPr/>
          </p:nvSpPr>
          <p:spPr>
            <a:xfrm>
              <a:off x="6336000" y="3643200"/>
              <a:ext cx="1698120" cy="6426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Funcionário B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95" name="Line 101"/>
            <p:cNvSpPr/>
            <p:nvPr/>
          </p:nvSpPr>
          <p:spPr>
            <a:xfrm>
              <a:off x="6053040" y="2857320"/>
              <a:ext cx="0" cy="2854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96" name="Line 102"/>
            <p:cNvSpPr/>
            <p:nvPr/>
          </p:nvSpPr>
          <p:spPr>
            <a:xfrm>
              <a:off x="4920840" y="3143160"/>
              <a:ext cx="233496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97" name="Line 103"/>
            <p:cNvSpPr/>
            <p:nvPr/>
          </p:nvSpPr>
          <p:spPr>
            <a:xfrm>
              <a:off x="4920840" y="3143160"/>
              <a:ext cx="0" cy="3567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98" name="Line 104"/>
            <p:cNvSpPr/>
            <p:nvPr/>
          </p:nvSpPr>
          <p:spPr>
            <a:xfrm>
              <a:off x="7256160" y="3143160"/>
              <a:ext cx="0" cy="3567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sp>
        <p:nvSpPr>
          <p:cNvPr id="399" name="Text Box 124"/>
          <p:cNvSpPr/>
          <p:nvPr/>
        </p:nvSpPr>
        <p:spPr>
          <a:xfrm>
            <a:off x="500040" y="4071960"/>
            <a:ext cx="328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 equipa de recursos humanos da XPTO</a:t>
            </a:r>
            <a:r>
              <a:rPr b="1" i="1" lang="pt-PT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é constituída por dois directores e por dois funcionários.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Análise do Potencial de Mercad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5960" y="1219320"/>
          <a:ext cx="7918560" cy="4881600"/>
        </p:xfrm>
        <a:graphic>
          <a:graphicData uri="http://schemas.openxmlformats.org/drawingml/2006/table">
            <a:tbl>
              <a:tblPr/>
              <a:tblGrid>
                <a:gridCol w="2089080"/>
                <a:gridCol w="582948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itérios</a:t>
                      </a:r>
                      <a:endParaRPr b="1" lang="en-US" sz="2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mento Alvo</a:t>
                      </a:r>
                      <a:endParaRPr b="1" lang="en-US" sz="2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44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Perfil do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liente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culare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f-servic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ssoas de ambos os sexos;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ade: 18 aos 65 an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ersos níveis de rendiment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ersos estratos sociais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sonaliz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ssoas de ambos os sexos;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ade: mais de 25 an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íveis de rendimento médio/alt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atos sociais médio/elevad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resa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 região de Chaves.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D119-4163-40F2-973B-071DEE33FBC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Responsabilidades e Tarefas dos Colaborador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4CC6-3347-4CCB-90AA-39D68D74ADA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57200" y="1249200"/>
          <a:ext cx="8229600" cy="5040360"/>
        </p:xfrm>
        <a:graphic>
          <a:graphicData uri="http://schemas.openxmlformats.org/drawingml/2006/table">
            <a:tbl>
              <a:tblPr/>
              <a:tblGrid>
                <a:gridCol w="2057400"/>
                <a:gridCol w="2971800"/>
                <a:gridCol w="3200400"/>
              </a:tblGrid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e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efa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etência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71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irector Financeiro </a:t>
                      </a: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(Sócio-Gerente)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álise financeira e contabilística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amento de ordenado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a de consumívei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além disso: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rdena a actividade empresarial;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ega e distribui tarefa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mada de decisõe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enciatura em …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hecimentos na área financeira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e de liderança 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ão estratégica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irector de Marketing e de Operações </a:t>
                      </a: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(Sócio-Gerente)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nha de divulgação 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udos de Mercado, Promoçõe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visão das operaçõe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além disso: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ega e distribui tarefa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o e manutenção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visão das instalaçõe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visão e classificação dos funcionário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enciatura em …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hecimentos na área de marketing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e de liderança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ilidade de comunicação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Funcionári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(Full-time)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ação dos horários dos serviço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ização dos serviços 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ços de manutenção do espaço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istência aos clientes do self-service    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colaridade obrigatória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s nas relações pública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 aparência 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apa de Trabalho</a:t>
            </a: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pt-PT" sz="2500" spc="-1" strike="noStrike">
                <a:solidFill>
                  <a:srgbClr val="000000"/>
                </a:solidFill>
                <a:latin typeface="Times New Roman"/>
              </a:rPr>
              <a:t>Verão (Maio - Setembro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FEED-D105-47D1-ADB3-779A215C09D7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457200" y="1081080"/>
          <a:ext cx="8229600" cy="4886280"/>
        </p:xfrm>
        <a:graphic>
          <a:graphicData uri="http://schemas.openxmlformats.org/drawingml/2006/table">
            <a:tbl>
              <a:tblPr/>
              <a:tblGrid>
                <a:gridCol w="1006560"/>
                <a:gridCol w="914400"/>
                <a:gridCol w="955440"/>
                <a:gridCol w="874800"/>
                <a:gridCol w="811440"/>
                <a:gridCol w="812520"/>
                <a:gridCol w="814680"/>
                <a:gridCol w="984240"/>
                <a:gridCol w="105552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ra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pa de Trabalh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gund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Terç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Quar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Quin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x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ábad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omingo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09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3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3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4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4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5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5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6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6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7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7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8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8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9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9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3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6" name="Group 213"/>
          <p:cNvGrpSpPr/>
          <p:nvPr/>
        </p:nvGrpSpPr>
        <p:grpSpPr>
          <a:xfrm>
            <a:off x="457200" y="6019920"/>
            <a:ext cx="4191120" cy="307080"/>
            <a:chOff x="457200" y="6019920"/>
            <a:chExt cx="4191120" cy="307080"/>
          </a:xfrm>
        </p:grpSpPr>
        <p:grpSp>
          <p:nvGrpSpPr>
            <p:cNvPr id="407" name="Group 212"/>
            <p:cNvGrpSpPr/>
            <p:nvPr/>
          </p:nvGrpSpPr>
          <p:grpSpPr>
            <a:xfrm>
              <a:off x="457200" y="6019920"/>
              <a:ext cx="3048120" cy="228600"/>
              <a:chOff x="457200" y="6019920"/>
              <a:chExt cx="3048120" cy="228600"/>
            </a:xfrm>
          </p:grpSpPr>
          <p:sp>
            <p:nvSpPr>
              <p:cNvPr id="408" name="Rectangle 169"/>
              <p:cNvSpPr/>
              <p:nvPr/>
            </p:nvSpPr>
            <p:spPr>
              <a:xfrm>
                <a:off x="457200" y="6019920"/>
                <a:ext cx="304920" cy="2286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  <p:sp>
            <p:nvSpPr>
              <p:cNvPr id="409" name="Rectangle 170"/>
              <p:cNvSpPr/>
              <p:nvPr/>
            </p:nvSpPr>
            <p:spPr>
              <a:xfrm>
                <a:off x="3200400" y="6019920"/>
                <a:ext cx="304920" cy="22860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</p:grpSp>
        <p:sp>
          <p:nvSpPr>
            <p:cNvPr id="410" name="Text Box 171"/>
            <p:cNvSpPr/>
            <p:nvPr/>
          </p:nvSpPr>
          <p:spPr>
            <a:xfrm>
              <a:off x="762120" y="6019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000000"/>
                  </a:solidFill>
                  <a:latin typeface="Times New Roman"/>
                </a:rPr>
                <a:t>- 1.º Turn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11" name="Text Box 172"/>
            <p:cNvSpPr/>
            <p:nvPr/>
          </p:nvSpPr>
          <p:spPr>
            <a:xfrm>
              <a:off x="3505320" y="6019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000000"/>
                  </a:solidFill>
                  <a:latin typeface="Times New Roman"/>
                </a:rPr>
                <a:t>- 2.º Turn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apa de Trabalho</a:t>
            </a: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pt-PT" sz="2500" spc="-1" strike="noStrike">
                <a:solidFill>
                  <a:srgbClr val="000000"/>
                </a:solidFill>
                <a:latin typeface="Times New Roman"/>
              </a:rPr>
              <a:t>Inverno (Outubro - Abril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4060-02C2-4828-A764-2938ED154EC2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457200" y="1066680"/>
          <a:ext cx="8229600" cy="4900680"/>
        </p:xfrm>
        <a:graphic>
          <a:graphicData uri="http://schemas.openxmlformats.org/drawingml/2006/table">
            <a:tbl>
              <a:tblPr/>
              <a:tblGrid>
                <a:gridCol w="1006560"/>
                <a:gridCol w="914400"/>
                <a:gridCol w="955440"/>
                <a:gridCol w="874800"/>
                <a:gridCol w="811440"/>
                <a:gridCol w="812520"/>
                <a:gridCol w="814680"/>
                <a:gridCol w="984240"/>
                <a:gridCol w="105552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ra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pa de Trabalh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gund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Terç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Quar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Quin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x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ábad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omingo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09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3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3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4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4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5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5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6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6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7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7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8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8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9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9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3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5" name="Group 470"/>
          <p:cNvGrpSpPr/>
          <p:nvPr/>
        </p:nvGrpSpPr>
        <p:grpSpPr>
          <a:xfrm>
            <a:off x="457200" y="6019920"/>
            <a:ext cx="4191120" cy="307080"/>
            <a:chOff x="457200" y="6019920"/>
            <a:chExt cx="4191120" cy="307080"/>
          </a:xfrm>
        </p:grpSpPr>
        <p:sp>
          <p:nvSpPr>
            <p:cNvPr id="416" name="Rectangle 460"/>
            <p:cNvSpPr/>
            <p:nvPr/>
          </p:nvSpPr>
          <p:spPr>
            <a:xfrm>
              <a:off x="457200" y="6019920"/>
              <a:ext cx="304920" cy="2286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17" name="Rectangle 461"/>
            <p:cNvSpPr/>
            <p:nvPr/>
          </p:nvSpPr>
          <p:spPr>
            <a:xfrm>
              <a:off x="3200400" y="6019920"/>
              <a:ext cx="304920" cy="2286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18" name="Text Box 462"/>
            <p:cNvSpPr/>
            <p:nvPr/>
          </p:nvSpPr>
          <p:spPr>
            <a:xfrm>
              <a:off x="762120" y="6019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000000"/>
                  </a:solidFill>
                  <a:latin typeface="Times New Roman"/>
                </a:rPr>
                <a:t>- 1.º Turn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19" name="Text Box 464"/>
            <p:cNvSpPr/>
            <p:nvPr/>
          </p:nvSpPr>
          <p:spPr>
            <a:xfrm>
              <a:off x="3505320" y="6019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000000"/>
                  </a:solidFill>
                  <a:latin typeface="Times New Roman"/>
                </a:rPr>
                <a:t>- 2.º Turn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Recrutamento e Selecção de Pess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088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Os cargos de gestão são desempenhados pelos empreendedores (sócios-gerentes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João Santos – Director Financeir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na Gonçalves – Director de Marketing e Operaçõ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Funcionári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 recrutamento será feito através de anúncios nos jornais da região e do centro de empreg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 selecção irá ser realizada segundo critérios estabelecidos previamente e comprovados mediante uma entrevist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ritérios de Selecçã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Idade superior a 21 an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Facilidade de comunicaçã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scolaridade obrigatór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Boa apresentaçã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F446-3FC7-42A6-83C8-532D8560673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Horário de Trabalho e Remuneraçõ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B926-3BE5-4B43-B37F-245C7E6EA319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533520" y="1238400"/>
          <a:ext cx="8076960" cy="5040000"/>
        </p:xfrm>
        <a:graphic>
          <a:graphicData uri="http://schemas.openxmlformats.org/drawingml/2006/table">
            <a:tbl>
              <a:tblPr/>
              <a:tblGrid>
                <a:gridCol w="2133360"/>
                <a:gridCol w="2428920"/>
                <a:gridCol w="3514680"/>
              </a:tblGrid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g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rário de Trabalh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muneração 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João Santo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irector Financeir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ário não estipul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Mê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ição de lucros no final de cada an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Ana Gonçalve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irector de Marketing e Operaçõ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ário não estipul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Mê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ição de lucros no final de cada an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Funcionário A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horas/di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horas/semanai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ês + € Incentiv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s Prémios: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€ por sub-serviço 1;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€ por sub-serviço 2.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Funcionário B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horas/di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horas/semanai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ês + € Incentiv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s Prémios: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€ por sub-serviço 1;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€ por sub-serviço 2.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Avaliação do Desempen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4ED0-4F81-42F8-A496-501C09C983E9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533520" y="1295280"/>
          <a:ext cx="8001000" cy="343224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itérios de Avalia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assifica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endimento ao Públic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empenho da Fun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est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sabi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iciênci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iduidade/Pontua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esent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ed-back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lient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429" name="Rectangle 50"/>
          <p:cNvSpPr/>
          <p:nvPr/>
        </p:nvSpPr>
        <p:spPr>
          <a:xfrm>
            <a:off x="0" y="4724280"/>
            <a:ext cx="861048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30000"/>
              </a:lnSpc>
              <a:spcBef>
                <a:spcPts val="400"/>
              </a:spcBef>
              <a:buClr>
                <a:srgbClr val="c0504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  Avaliação dos funcionários será feita mensalmente;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1" marL="457200" algn="just">
              <a:lnSpc>
                <a:spcPct val="130000"/>
              </a:lnSpc>
              <a:spcBef>
                <a:spcPts val="400"/>
              </a:spcBef>
              <a:buClr>
                <a:srgbClr val="c0504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om uma avaliação situada entre os 60 – 80 pontos receberão um incentivo de €;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1" marL="457200" algn="just">
              <a:lnSpc>
                <a:spcPct val="130000"/>
              </a:lnSpc>
              <a:spcBef>
                <a:spcPts val="400"/>
              </a:spcBef>
              <a:buClr>
                <a:srgbClr val="c0504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Só terão direito à totalidade do incentivo com uma classificação acima dos 80 pontos;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1" marL="457200" algn="just">
              <a:lnSpc>
                <a:spcPct val="130000"/>
              </a:lnSpc>
              <a:spcBef>
                <a:spcPts val="400"/>
              </a:spcBef>
              <a:buClr>
                <a:srgbClr val="c0504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om 6 avaliações consecutivas acima dos 80 pontos receberá um prémio adicional de  €.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lanos de 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10666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Numa equipa dinâmica como a da XPTO, a formação ocupa um lugar de destaque, não só 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 objectivo de aumentar as capacidades qualitativas dos seus colaboradores e do serviço para 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liente, como também para abrir portas a novos projectos e oportunidades de mercado. Assim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numa primeira fase a formação consistirá em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Director Financeir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Formação na área de contabilidad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Inscrição na Câmara dos Técnicos Oficiais de Conta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Director de Marketing e Operaçõ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Formação na área do marketing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Formação em relações públicas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Formação na área de gestão das operaçõ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Funcionári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Formação em relações pública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Formação em relação aos procedimentos a seguir nos sub-serviç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Formação no manuseamento dos equipamen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5415-C017-4EE9-BA59-0DCD8EAACFF8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402B-E5C9-4817-9B30-5334EE327A98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0" y="1714680"/>
            <a:ext cx="9144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presentação do Projecto/ </a:t>
            </a:r>
            <a:endParaRPr b="1" lang="en-US" sz="54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do Negócio</a:t>
            </a:r>
            <a:endParaRPr b="1" lang="en-US" sz="54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Gestão das Operações</a:t>
            </a:r>
            <a:endParaRPr b="1" lang="en-US" sz="3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Gestão da Cadeia Oper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9926-03FD-4736-B855-792C76361B78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57200" y="1295280"/>
          <a:ext cx="8229600" cy="4953240"/>
        </p:xfrm>
        <a:graphic>
          <a:graphicData uri="http://schemas.openxmlformats.org/drawingml/2006/table">
            <a:tbl>
              <a:tblPr/>
              <a:tblGrid>
                <a:gridCol w="2230560"/>
                <a:gridCol w="5999040"/>
              </a:tblGrid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vidade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85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Estratégica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lementação perto de um Hipermercad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te investimento inicial em publicidade, para dar a conhecer os nossos serviç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dade dos serviços prestados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Táctica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ítica de recursos human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oção e publicidade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e Base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ços de Contabilidade e de Marketing;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ções Públicas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Actividades Internaliz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Funções Internalizadas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Serviços self-service e personalizado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Estudos de mercado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Compras de materiai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Recrutamento/Selecção dos recursos humano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Campanhas publicitárias (parcialmente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Aquisição do equipamento e dos consumívei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Contabilidad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E6B5-B37C-4D8D-927F-D69B83906123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441" name="Group 4"/>
          <p:cNvGrpSpPr/>
          <p:nvPr/>
        </p:nvGrpSpPr>
        <p:grpSpPr>
          <a:xfrm>
            <a:off x="152280" y="4419720"/>
            <a:ext cx="8839440" cy="1904760"/>
            <a:chOff x="152280" y="4419720"/>
            <a:chExt cx="8839440" cy="1904760"/>
          </a:xfrm>
        </p:grpSpPr>
        <p:sp>
          <p:nvSpPr>
            <p:cNvPr id="442" name="AutoShape 5"/>
            <p:cNvSpPr/>
            <p:nvPr/>
          </p:nvSpPr>
          <p:spPr>
            <a:xfrm>
              <a:off x="152280" y="4419720"/>
              <a:ext cx="2210040" cy="1904760"/>
            </a:xfrm>
            <a:custGeom>
              <a:avLst/>
              <a:gdLst>
                <a:gd name="textAreaLeft" fmla="*/ 0 w 2210040"/>
                <a:gd name="textAreaRight" fmla="*/ 2210400 w 221004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200" spc="-1" strike="noStrike">
                  <a:solidFill>
                    <a:srgbClr val="669900"/>
                  </a:solidFill>
                  <a:latin typeface="Times New Roman"/>
                </a:rPr>
                <a:t>      </a:t>
              </a:r>
              <a:r>
                <a:rPr b="1" lang="pt-PT" sz="1400" spc="-1" strike="noStrike">
                  <a:solidFill>
                    <a:srgbClr val="669900"/>
                  </a:solidFill>
                  <a:latin typeface="Times New Roman"/>
                </a:rPr>
                <a:t>Pesquisa e 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669900"/>
                  </a:solidFill>
                  <a:latin typeface="Times New Roman"/>
                </a:rPr>
                <a:t>Desenvolviment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I&amp;D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669900"/>
                  </a:solidFill>
                  <a:latin typeface="Times New Roman"/>
                </a:rPr>
                <a:t>Director de Marketing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3" name="AutoShape 6"/>
            <p:cNvSpPr/>
            <p:nvPr/>
          </p:nvSpPr>
          <p:spPr>
            <a:xfrm>
              <a:off x="3500280" y="4419720"/>
              <a:ext cx="2428920" cy="1904760"/>
            </a:xfrm>
            <a:custGeom>
              <a:avLst/>
              <a:gdLst>
                <a:gd name="textAreaLeft" fmla="*/ 0 w 2428920"/>
                <a:gd name="textAreaRight" fmla="*/ 2429280 w 242892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6" y="0"/>
                  </a:lnTo>
                  <a:lnTo>
                    <a:pt x="21600" y="10800"/>
                  </a:lnTo>
                  <a:lnTo>
                    <a:pt x="16856" y="21600"/>
                  </a:lnTo>
                  <a:lnTo>
                    <a:pt x="0" y="21600"/>
                  </a:lnTo>
                  <a:lnTo>
                    <a:pt x="4744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pt-PT" sz="1400" spc="-1" strike="noStrike">
                  <a:solidFill>
                    <a:srgbClr val="ff0000"/>
                  </a:solidFill>
                  <a:latin typeface="Times New Roman"/>
                </a:rPr>
                <a:t>Contabilidade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Contabilidade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Planos Investiment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i="1" lang="pt-PT" sz="1300" spc="-1" strike="noStrike">
                  <a:solidFill>
                    <a:srgbClr val="ff0000"/>
                  </a:solidFill>
                  <a:latin typeface="Times New Roman"/>
                </a:rPr>
                <a:t>Director Financeiro</a:t>
              </a:r>
              <a:endParaRPr b="1" lang="en-US" sz="13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4" name="AutoShape 7"/>
            <p:cNvSpPr/>
            <p:nvPr/>
          </p:nvSpPr>
          <p:spPr>
            <a:xfrm>
              <a:off x="5357880" y="4419720"/>
              <a:ext cx="2054160" cy="1904760"/>
            </a:xfrm>
            <a:custGeom>
              <a:avLst/>
              <a:gdLst>
                <a:gd name="textAreaLeft" fmla="*/ 0 w 2054160"/>
                <a:gd name="textAreaRight" fmla="*/ 2054520 w 205416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536" y="0"/>
                  </a:lnTo>
                  <a:lnTo>
                    <a:pt x="21600" y="10800"/>
                  </a:lnTo>
                  <a:lnTo>
                    <a:pt x="15536" y="21600"/>
                  </a:lnTo>
                  <a:lnTo>
                    <a:pt x="0" y="21600"/>
                  </a:lnTo>
                  <a:lnTo>
                    <a:pt x="6064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669900"/>
                  </a:solidFill>
                  <a:latin typeface="Times New Roman"/>
                </a:rPr>
                <a:t>Marketing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Estudos de Mercad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Campanhas 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Publicitárias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669900"/>
                  </a:solidFill>
                  <a:latin typeface="Times New Roman"/>
                </a:rPr>
                <a:t>  </a:t>
              </a:r>
              <a:r>
                <a:rPr b="1" i="1" lang="pt-PT" sz="1400" spc="-1" strike="noStrike">
                  <a:solidFill>
                    <a:srgbClr val="669900"/>
                  </a:solidFill>
                  <a:latin typeface="Times New Roman"/>
                </a:rPr>
                <a:t>Director de Marketing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5" name="AutoShape 8"/>
            <p:cNvSpPr/>
            <p:nvPr/>
          </p:nvSpPr>
          <p:spPr>
            <a:xfrm>
              <a:off x="6858000" y="4419720"/>
              <a:ext cx="2133720" cy="190476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99"/>
                  </a:solidFill>
                  <a:latin typeface="Times New Roman"/>
                </a:rPr>
                <a:t>Serviço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 Self-service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Personalizad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Manutenção d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espaç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000099"/>
                  </a:solidFill>
                  <a:latin typeface="Times New Roman"/>
                </a:rPr>
                <a:t>Funcionário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6" name="AutoShape 9"/>
            <p:cNvSpPr/>
            <p:nvPr/>
          </p:nvSpPr>
          <p:spPr>
            <a:xfrm>
              <a:off x="1765440" y="4419720"/>
              <a:ext cx="2235240" cy="1904760"/>
            </a:xfrm>
            <a:custGeom>
              <a:avLst/>
              <a:gdLst>
                <a:gd name="textAreaLeft" fmla="*/ 0 w 2235240"/>
                <a:gd name="textAreaRight" fmla="*/ 2235240 w 223524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24" y="0"/>
                  </a:lnTo>
                  <a:lnTo>
                    <a:pt x="21600" y="10800"/>
                  </a:lnTo>
                  <a:lnTo>
                    <a:pt x="16024" y="21600"/>
                  </a:lnTo>
                  <a:lnTo>
                    <a:pt x="0" y="21600"/>
                  </a:lnTo>
                  <a:lnTo>
                    <a:pt x="5576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ff0000"/>
                  </a:solidFill>
                  <a:latin typeface="Times New Roman"/>
                </a:rPr>
                <a:t>Compra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100" spc="-1" strike="noStrike">
                  <a:solidFill>
                    <a:srgbClr val="000000"/>
                  </a:solidFill>
                  <a:latin typeface="Times New Roman"/>
                </a:rPr>
                <a:t>Aquisição Equipamento</a:t>
              </a:r>
              <a:endParaRPr b="1" lang="en-US" sz="11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Times New Roman"/>
                </a:rPr>
                <a:t>Compra Consumíveis</a:t>
              </a:r>
              <a:endParaRPr b="1" lang="en-US" sz="11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200" spc="-1" strike="noStrike">
                  <a:solidFill>
                    <a:srgbClr val="ff0000"/>
                  </a:solidFill>
                  <a:latin typeface="Times New Roman"/>
                </a:rPr>
                <a:t>Director Financeir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sp>
        <p:nvSpPr>
          <p:cNvPr id="447" name="Text Box 11"/>
          <p:cNvSpPr/>
          <p:nvPr/>
        </p:nvSpPr>
        <p:spPr>
          <a:xfrm>
            <a:off x="152280" y="403848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Figura 9 – Integração Vertical da Cadeia Operacional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Análise do Potencial de Mercad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447920"/>
          <a:ext cx="8229600" cy="4572000"/>
        </p:xfrm>
        <a:graphic>
          <a:graphicData uri="http://schemas.openxmlformats.org/drawingml/2006/table">
            <a:tbl>
              <a:tblPr/>
              <a:tblGrid>
                <a:gridCol w="2171880"/>
                <a:gridCol w="6057720"/>
              </a:tblGrid>
              <a:tr h="15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Aspectos 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Geográfico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224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dentes em Chaves e arredores;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spcBef>
                          <a:spcPts val="224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resas da região.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Aspecto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omportamentai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224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ssoas com pouca disponibilidade de tempo. 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Ocasiões de Compra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224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ante todo o ano;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spcBef>
                          <a:spcPts val="224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r procura nos meses de Verão. 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4BC4-630C-467A-88E9-714219B1804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Actividades Externaliz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C6CB-B2EA-49EE-989B-7B87A17FFEC4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50" name="Text Box 346"/>
          <p:cNvSpPr/>
          <p:nvPr/>
        </p:nvSpPr>
        <p:spPr>
          <a:xfrm>
            <a:off x="457200" y="1461960"/>
            <a:ext cx="8077320" cy="45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omo vimos, praticamente todas as actividades da XPTO são internalizadas, exceptuando as seguintes: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1" marL="457200" algn="just">
              <a:lnSpc>
                <a:spcPct val="130000"/>
              </a:lnSpc>
              <a:buClr>
                <a:srgbClr val="c0504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Funções Externalizadas: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  <a:p>
            <a:pPr lvl="1" marL="457200" algn="just">
              <a:lnSpc>
                <a:spcPct val="130000"/>
              </a:lnSpc>
              <a:buClr>
                <a:srgbClr val="c0504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eeece1"/>
              </a:solidFill>
              <a:latin typeface="Monotype Corsiva"/>
            </a:endParaRPr>
          </a:p>
          <a:p>
            <a:pPr lvl="1" marL="457200" algn="just">
              <a:lnSpc>
                <a:spcPct val="130000"/>
              </a:lnSpc>
              <a:buClr>
                <a:srgbClr val="c0504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eeece1"/>
              </a:solidFill>
              <a:latin typeface="Monotype Corsiva"/>
            </a:endParaRPr>
          </a:p>
          <a:p>
            <a:pPr lvl="2" marL="1004760" indent="-255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Manutenção dos Equipamentos  (empresa </a:t>
            </a:r>
            <a:r>
              <a:rPr b="0" i="1" lang="pt-PT" sz="1600" spc="-1" strike="noStrike">
                <a:solidFill>
                  <a:srgbClr val="000000"/>
                </a:solidFill>
                <a:latin typeface="Times New Roman"/>
              </a:rPr>
              <a:t>Avemat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2" marL="1004760" indent="-255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mpanhas publicitárias (parcialmente);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2" marL="1004760" indent="-255600" algn="just">
              <a:lnSpc>
                <a:spcPct val="200000"/>
              </a:lnSpc>
              <a:buClr>
                <a:srgbClr val="eeece1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2" marL="1004760" indent="-255600" algn="just">
              <a:lnSpc>
                <a:spcPct val="200000"/>
              </a:lnSpc>
              <a:buClr>
                <a:srgbClr val="eeece1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2" marL="1004760" indent="-255600" algn="just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rocessos de Negó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rticulares – Serviço 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rticulares – Serviço B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resas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1804-BD56-4E91-9DFF-0BFB05697AE3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454" name="Group 69"/>
          <p:cNvGrpSpPr/>
          <p:nvPr/>
        </p:nvGrpSpPr>
        <p:grpSpPr>
          <a:xfrm>
            <a:off x="838080" y="1600200"/>
            <a:ext cx="7467840" cy="1143000"/>
            <a:chOff x="838080" y="1600200"/>
            <a:chExt cx="7467840" cy="1143000"/>
          </a:xfrm>
        </p:grpSpPr>
        <p:grpSp>
          <p:nvGrpSpPr>
            <p:cNvPr id="455" name="Group 14"/>
            <p:cNvGrpSpPr/>
            <p:nvPr/>
          </p:nvGrpSpPr>
          <p:grpSpPr>
            <a:xfrm>
              <a:off x="838080" y="1600200"/>
              <a:ext cx="1447920" cy="1143000"/>
              <a:chOff x="838080" y="1600200"/>
              <a:chExt cx="1447920" cy="1143000"/>
            </a:xfrm>
          </p:grpSpPr>
          <p:sp>
            <p:nvSpPr>
              <p:cNvPr id="456" name="AutoShape 13"/>
              <p:cNvSpPr/>
              <p:nvPr/>
            </p:nvSpPr>
            <p:spPr>
              <a:xfrm>
                <a:off x="914400" y="1600200"/>
                <a:ext cx="1371600" cy="1143000"/>
              </a:xfrm>
              <a:prstGeom prst="rightArrowCallout">
                <a:avLst>
                  <a:gd name="adj1" fmla="val 25002"/>
                  <a:gd name="adj2" fmla="val 25000"/>
                  <a:gd name="adj3" fmla="val 20000"/>
                  <a:gd name="adj4" fmla="val 66667"/>
                </a:avLst>
              </a:prstGeom>
              <a:solidFill>
                <a:srgbClr val="4f81bd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  <p:sp>
            <p:nvSpPr>
              <p:cNvPr id="457" name="Text Box 10"/>
              <p:cNvSpPr/>
              <p:nvPr/>
            </p:nvSpPr>
            <p:spPr>
              <a:xfrm>
                <a:off x="838080" y="1905120"/>
                <a:ext cx="12193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4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pt-PT" sz="1400" spc="-1" strike="noStrike">
                    <a:solidFill>
                      <a:srgbClr val="000000"/>
                    </a:solidFill>
                    <a:latin typeface="Times New Roman"/>
                  </a:rPr>
                  <a:t>Preço</a:t>
                </a:r>
                <a:endParaRPr b="1" lang="en-US" sz="14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</p:grpSp>
        <p:grpSp>
          <p:nvGrpSpPr>
            <p:cNvPr id="458" name="Group 60"/>
            <p:cNvGrpSpPr/>
            <p:nvPr/>
          </p:nvGrpSpPr>
          <p:grpSpPr>
            <a:xfrm>
              <a:off x="2438280" y="1600200"/>
              <a:ext cx="1447560" cy="1143000"/>
              <a:chOff x="2438280" y="1600200"/>
              <a:chExt cx="1447560" cy="1143000"/>
            </a:xfrm>
          </p:grpSpPr>
          <p:sp>
            <p:nvSpPr>
              <p:cNvPr id="459" name="AutoShape 17"/>
              <p:cNvSpPr/>
              <p:nvPr/>
            </p:nvSpPr>
            <p:spPr>
              <a:xfrm>
                <a:off x="2514240" y="1600200"/>
                <a:ext cx="1371600" cy="1143000"/>
              </a:xfrm>
              <a:prstGeom prst="rightArrowCallout">
                <a:avLst>
                  <a:gd name="adj1" fmla="val 25002"/>
                  <a:gd name="adj2" fmla="val 25000"/>
                  <a:gd name="adj3" fmla="val 20000"/>
                  <a:gd name="adj4" fmla="val 66667"/>
                </a:avLst>
              </a:prstGeom>
              <a:solidFill>
                <a:srgbClr val="4f81bd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  <p:sp>
            <p:nvSpPr>
              <p:cNvPr id="460" name="Text Box 18"/>
              <p:cNvSpPr/>
              <p:nvPr/>
            </p:nvSpPr>
            <p:spPr>
              <a:xfrm>
                <a:off x="2438280" y="1927080"/>
                <a:ext cx="121896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400" spc="-1" strike="noStrike">
                    <a:solidFill>
                      <a:srgbClr val="000000"/>
                    </a:solidFill>
                    <a:latin typeface="Times New Roman"/>
                  </a:rPr>
                  <a:t>Simplicidade /Rapidez</a:t>
                </a:r>
                <a:endParaRPr b="1" lang="en-US" sz="14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</p:grpSp>
        <p:sp>
          <p:nvSpPr>
            <p:cNvPr id="461" name="AutoShape 20"/>
            <p:cNvSpPr/>
            <p:nvPr/>
          </p:nvSpPr>
          <p:spPr>
            <a:xfrm>
              <a:off x="5715000" y="1600200"/>
              <a:ext cx="1371600" cy="1143000"/>
            </a:xfrm>
            <a:prstGeom prst="rightArrowCallout">
              <a:avLst>
                <a:gd name="adj1" fmla="val 25002"/>
                <a:gd name="adj2" fmla="val 25000"/>
                <a:gd name="adj3" fmla="val 20000"/>
                <a:gd name="adj4" fmla="val 66667"/>
              </a:avLst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62" name="Text Box 21"/>
            <p:cNvSpPr/>
            <p:nvPr/>
          </p:nvSpPr>
          <p:spPr>
            <a:xfrm>
              <a:off x="5562720" y="1981080"/>
              <a:ext cx="12189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Satisfaçã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63" name="AutoShape 30"/>
            <p:cNvSpPr/>
            <p:nvPr/>
          </p:nvSpPr>
          <p:spPr>
            <a:xfrm>
              <a:off x="4114800" y="1600200"/>
              <a:ext cx="1371600" cy="1143000"/>
            </a:xfrm>
            <a:prstGeom prst="rightArrowCallout">
              <a:avLst>
                <a:gd name="adj1" fmla="val 25002"/>
                <a:gd name="adj2" fmla="val 25000"/>
                <a:gd name="adj3" fmla="val 20000"/>
                <a:gd name="adj4" fmla="val 66667"/>
              </a:avLst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64" name="Text Box 31"/>
            <p:cNvSpPr/>
            <p:nvPr/>
          </p:nvSpPr>
          <p:spPr>
            <a:xfrm>
              <a:off x="3962520" y="1905120"/>
              <a:ext cx="1218960" cy="5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Hábito de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1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Utilizaçã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65" name="Rectangle 61"/>
            <p:cNvSpPr/>
            <p:nvPr/>
          </p:nvSpPr>
          <p:spPr>
            <a:xfrm>
              <a:off x="7391520" y="1600200"/>
              <a:ext cx="914400" cy="1143000"/>
            </a:xfrm>
            <a:prstGeom prst="rect">
              <a:avLst/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Fidelizaçã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grpSp>
        <p:nvGrpSpPr>
          <p:cNvPr id="466" name="Group 68"/>
          <p:cNvGrpSpPr/>
          <p:nvPr/>
        </p:nvGrpSpPr>
        <p:grpSpPr>
          <a:xfrm>
            <a:off x="762120" y="5029200"/>
            <a:ext cx="6019200" cy="1143000"/>
            <a:chOff x="762120" y="5029200"/>
            <a:chExt cx="6019200" cy="1143000"/>
          </a:xfrm>
        </p:grpSpPr>
        <p:sp>
          <p:nvSpPr>
            <p:cNvPr id="467" name="AutoShape 49"/>
            <p:cNvSpPr/>
            <p:nvPr/>
          </p:nvSpPr>
          <p:spPr>
            <a:xfrm>
              <a:off x="914040" y="5029200"/>
              <a:ext cx="1371240" cy="1143000"/>
            </a:xfrm>
            <a:prstGeom prst="rightArrowCallout">
              <a:avLst>
                <a:gd name="adj1" fmla="val 25002"/>
                <a:gd name="adj2" fmla="val 25000"/>
                <a:gd name="adj3" fmla="val 19995"/>
                <a:gd name="adj4" fmla="val 66667"/>
              </a:avLst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68" name="Text Box 50"/>
            <p:cNvSpPr/>
            <p:nvPr/>
          </p:nvSpPr>
          <p:spPr>
            <a:xfrm>
              <a:off x="762120" y="5181480"/>
              <a:ext cx="121896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Aquisição Carteira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Cliente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69" name="AutoShape 51"/>
            <p:cNvSpPr/>
            <p:nvPr/>
          </p:nvSpPr>
          <p:spPr>
            <a:xfrm>
              <a:off x="2590560" y="5029200"/>
              <a:ext cx="1371240" cy="1143000"/>
            </a:xfrm>
            <a:prstGeom prst="rightArrowCallout">
              <a:avLst>
                <a:gd name="adj1" fmla="val 25002"/>
                <a:gd name="adj2" fmla="val 25000"/>
                <a:gd name="adj3" fmla="val 19995"/>
                <a:gd name="adj4" fmla="val 66667"/>
              </a:avLst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70" name="Text Box 52"/>
            <p:cNvSpPr/>
            <p:nvPr/>
          </p:nvSpPr>
          <p:spPr>
            <a:xfrm>
              <a:off x="2514240" y="5356080"/>
              <a:ext cx="121896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Qualidade/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Preç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grpSp>
          <p:nvGrpSpPr>
            <p:cNvPr id="471" name="Group 64"/>
            <p:cNvGrpSpPr/>
            <p:nvPr/>
          </p:nvGrpSpPr>
          <p:grpSpPr>
            <a:xfrm>
              <a:off x="4038480" y="5029200"/>
              <a:ext cx="1523160" cy="1143000"/>
              <a:chOff x="4038480" y="5029200"/>
              <a:chExt cx="1523160" cy="1143000"/>
            </a:xfrm>
          </p:grpSpPr>
          <p:sp>
            <p:nvSpPr>
              <p:cNvPr id="472" name="AutoShape 53"/>
              <p:cNvSpPr/>
              <p:nvPr/>
            </p:nvSpPr>
            <p:spPr>
              <a:xfrm>
                <a:off x="4190400" y="5029200"/>
                <a:ext cx="1371240" cy="1143000"/>
              </a:xfrm>
              <a:prstGeom prst="rightArrowCallout">
                <a:avLst>
                  <a:gd name="adj1" fmla="val 25002"/>
                  <a:gd name="adj2" fmla="val 25000"/>
                  <a:gd name="adj3" fmla="val 19995"/>
                  <a:gd name="adj4" fmla="val 66667"/>
                </a:avLst>
              </a:prstGeom>
              <a:solidFill>
                <a:srgbClr val="4f81bd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  <p:sp>
            <p:nvSpPr>
              <p:cNvPr id="473" name="Text Box 54"/>
              <p:cNvSpPr/>
              <p:nvPr/>
            </p:nvSpPr>
            <p:spPr>
              <a:xfrm>
                <a:off x="4038480" y="5410080"/>
                <a:ext cx="12189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pt-PT" sz="1400" spc="-1" strike="noStrike">
                    <a:solidFill>
                      <a:srgbClr val="000000"/>
                    </a:solidFill>
                    <a:latin typeface="Times New Roman"/>
                  </a:rPr>
                  <a:t>Satisfação</a:t>
                </a:r>
                <a:endParaRPr b="1" lang="en-US" sz="14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</p:grpSp>
        <p:sp>
          <p:nvSpPr>
            <p:cNvPr id="474" name="Rectangle 62"/>
            <p:cNvSpPr/>
            <p:nvPr/>
          </p:nvSpPr>
          <p:spPr>
            <a:xfrm>
              <a:off x="5867280" y="5029200"/>
              <a:ext cx="914040" cy="1143000"/>
            </a:xfrm>
            <a:prstGeom prst="rect">
              <a:avLst/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Fidelizaçã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grpSp>
        <p:nvGrpSpPr>
          <p:cNvPr id="475" name="Group 66"/>
          <p:cNvGrpSpPr/>
          <p:nvPr/>
        </p:nvGrpSpPr>
        <p:grpSpPr>
          <a:xfrm>
            <a:off x="838080" y="3352680"/>
            <a:ext cx="4191120" cy="1143000"/>
            <a:chOff x="838080" y="3352680"/>
            <a:chExt cx="4191120" cy="1143000"/>
          </a:xfrm>
        </p:grpSpPr>
        <p:grpSp>
          <p:nvGrpSpPr>
            <p:cNvPr id="476" name="Group 34"/>
            <p:cNvGrpSpPr/>
            <p:nvPr/>
          </p:nvGrpSpPr>
          <p:grpSpPr>
            <a:xfrm>
              <a:off x="838080" y="3352680"/>
              <a:ext cx="1447920" cy="1143000"/>
              <a:chOff x="838080" y="3352680"/>
              <a:chExt cx="1447920" cy="1143000"/>
            </a:xfrm>
          </p:grpSpPr>
          <p:sp>
            <p:nvSpPr>
              <p:cNvPr id="477" name="AutoShape 35"/>
              <p:cNvSpPr/>
              <p:nvPr/>
            </p:nvSpPr>
            <p:spPr>
              <a:xfrm>
                <a:off x="914400" y="3352680"/>
                <a:ext cx="1371600" cy="1143000"/>
              </a:xfrm>
              <a:prstGeom prst="rightArrowCallout">
                <a:avLst>
                  <a:gd name="adj1" fmla="val 25002"/>
                  <a:gd name="adj2" fmla="val 25000"/>
                  <a:gd name="adj3" fmla="val 20000"/>
                  <a:gd name="adj4" fmla="val 66667"/>
                </a:avLst>
              </a:prstGeom>
              <a:solidFill>
                <a:srgbClr val="4f81bd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  <p:sp>
            <p:nvSpPr>
              <p:cNvPr id="478" name="Text Box 36"/>
              <p:cNvSpPr/>
              <p:nvPr/>
            </p:nvSpPr>
            <p:spPr>
              <a:xfrm>
                <a:off x="838080" y="3657600"/>
                <a:ext cx="121932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pt-PT" sz="1400" spc="-1" strike="noStrike">
                    <a:solidFill>
                      <a:srgbClr val="000000"/>
                    </a:solidFill>
                    <a:latin typeface="Times New Roman"/>
                  </a:rPr>
                  <a:t>Qualidade/</a:t>
                </a:r>
                <a:endParaRPr b="1" lang="en-US" sz="1400" spc="-1" strike="noStrike">
                  <a:solidFill>
                    <a:srgbClr val="eeece1"/>
                  </a:solidFill>
                  <a:latin typeface="Monotype Corsiva"/>
                </a:endParaRPr>
              </a:p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pt-PT" sz="1400" spc="-1" strike="noStrike">
                    <a:solidFill>
                      <a:srgbClr val="000000"/>
                    </a:solidFill>
                    <a:latin typeface="Times New Roman"/>
                  </a:rPr>
                  <a:t>Preço</a:t>
                </a:r>
                <a:endParaRPr b="1" lang="en-US" sz="14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</p:grpSp>
        <p:sp>
          <p:nvSpPr>
            <p:cNvPr id="479" name="AutoShape 37"/>
            <p:cNvSpPr/>
            <p:nvPr/>
          </p:nvSpPr>
          <p:spPr>
            <a:xfrm>
              <a:off x="2514600" y="3352680"/>
              <a:ext cx="1371600" cy="1143000"/>
            </a:xfrm>
            <a:prstGeom prst="rightArrowCallout">
              <a:avLst>
                <a:gd name="adj1" fmla="val 25002"/>
                <a:gd name="adj2" fmla="val 25000"/>
                <a:gd name="adj3" fmla="val 20000"/>
                <a:gd name="adj4" fmla="val 66667"/>
              </a:avLst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80" name="Text Box 38"/>
            <p:cNvSpPr/>
            <p:nvPr/>
          </p:nvSpPr>
          <p:spPr>
            <a:xfrm>
              <a:off x="2286000" y="3679920"/>
              <a:ext cx="1219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Satisfaçã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81" name="Rectangle 63"/>
            <p:cNvSpPr/>
            <p:nvPr/>
          </p:nvSpPr>
          <p:spPr>
            <a:xfrm>
              <a:off x="4114800" y="3352680"/>
              <a:ext cx="914400" cy="1143000"/>
            </a:xfrm>
            <a:prstGeom prst="rect">
              <a:avLst/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Fidelizaçã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olítica de Operaçõ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76BA-0E70-4562-A9DD-C3B277553509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457200" y="1461960"/>
          <a:ext cx="8229600" cy="4786560"/>
        </p:xfrm>
        <a:graphic>
          <a:graphicData uri="http://schemas.openxmlformats.org/drawingml/2006/table">
            <a:tbl>
              <a:tblPr/>
              <a:tblGrid>
                <a:gridCol w="2286000"/>
                <a:gridCol w="5943600"/>
              </a:tblGrid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itério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4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Plano de Servi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erto 7 dias por semana;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ço self-service: 24 horas;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ço personalizado: 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ário: Verão – Segunda e Terça: 9:00h –21:00h;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–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a a Sábado: 9:00h – 22:00h;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–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ingo: 9:00h – 13:00h;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erno – Segunda a Sábado: 9:00h –20:00h;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–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ingo: 9:00h – 13:00h;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peza das instalações no final de cada turno.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Localiz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ada Nacional nº , junto ao Leclerc;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s acessos e estacionamento gratuito.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Fornecedor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pamento e consumíveis: </a:t>
                      </a:r>
                      <a:r>
                        <a:rPr b="0" i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mat.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ontrolo de Qua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o da qualidade da água e dos equipamentos assegurada pela </a:t>
                      </a:r>
                      <a:r>
                        <a:rPr b="0" i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mat.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Pós-vend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ed-back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clientes e empresas;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stionários periódicos acerca da satisfação dos consumidores. 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Lay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5B10-7894-402D-9829-26D6E324F37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57200" y="2133720"/>
          <a:ext cx="8001000" cy="1828800"/>
        </p:xfrm>
        <a:graphic>
          <a:graphicData uri="http://schemas.openxmlformats.org/drawingml/2006/table">
            <a:tbl>
              <a:tblPr/>
              <a:tblGrid>
                <a:gridCol w="1676520"/>
                <a:gridCol w="1143000"/>
                <a:gridCol w="914400"/>
                <a:gridCol w="1371600"/>
                <a:gridCol w="1523880"/>
                <a:gridCol w="13716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8" name="Line 57"/>
          <p:cNvSpPr/>
          <p:nvPr/>
        </p:nvSpPr>
        <p:spPr>
          <a:xfrm>
            <a:off x="1905120" y="2133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89" name="Line 58"/>
          <p:cNvSpPr/>
          <p:nvPr/>
        </p:nvSpPr>
        <p:spPr>
          <a:xfrm>
            <a:off x="3048120" y="2133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0" name="Line 60"/>
          <p:cNvSpPr/>
          <p:nvPr/>
        </p:nvSpPr>
        <p:spPr>
          <a:xfrm>
            <a:off x="5486400" y="2133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1" name="Line 61"/>
          <p:cNvSpPr/>
          <p:nvPr/>
        </p:nvSpPr>
        <p:spPr>
          <a:xfrm>
            <a:off x="708660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2" name="Line 62"/>
          <p:cNvSpPr/>
          <p:nvPr/>
        </p:nvSpPr>
        <p:spPr>
          <a:xfrm>
            <a:off x="701028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3" name="Line 63"/>
          <p:cNvSpPr/>
          <p:nvPr/>
        </p:nvSpPr>
        <p:spPr>
          <a:xfrm>
            <a:off x="693432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4" name="Line 64"/>
          <p:cNvSpPr/>
          <p:nvPr/>
        </p:nvSpPr>
        <p:spPr>
          <a:xfrm>
            <a:off x="723888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5" name="Line 65"/>
          <p:cNvSpPr/>
          <p:nvPr/>
        </p:nvSpPr>
        <p:spPr>
          <a:xfrm>
            <a:off x="716292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6" name="Line 66"/>
          <p:cNvSpPr/>
          <p:nvPr/>
        </p:nvSpPr>
        <p:spPr>
          <a:xfrm>
            <a:off x="4267080" y="2133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7" name="Line 67"/>
          <p:cNvSpPr/>
          <p:nvPr/>
        </p:nvSpPr>
        <p:spPr>
          <a:xfrm>
            <a:off x="685800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8" name="Line 68"/>
          <p:cNvSpPr/>
          <p:nvPr/>
        </p:nvSpPr>
        <p:spPr>
          <a:xfrm>
            <a:off x="678168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9" name="Rectangle 69"/>
          <p:cNvSpPr/>
          <p:nvPr/>
        </p:nvSpPr>
        <p:spPr>
          <a:xfrm>
            <a:off x="1600200" y="2133720"/>
            <a:ext cx="22860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0" name="Rectangle 70"/>
          <p:cNvSpPr/>
          <p:nvPr/>
        </p:nvSpPr>
        <p:spPr>
          <a:xfrm>
            <a:off x="3048120" y="2895480"/>
            <a:ext cx="228600" cy="2286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1" name="Rectangle 71"/>
          <p:cNvSpPr/>
          <p:nvPr/>
        </p:nvSpPr>
        <p:spPr>
          <a:xfrm>
            <a:off x="1905120" y="2895480"/>
            <a:ext cx="228600" cy="228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2" name="Rectangle 72"/>
          <p:cNvSpPr/>
          <p:nvPr/>
        </p:nvSpPr>
        <p:spPr>
          <a:xfrm>
            <a:off x="3048120" y="358128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3" name="Rectangle 73"/>
          <p:cNvSpPr/>
          <p:nvPr/>
        </p:nvSpPr>
        <p:spPr>
          <a:xfrm>
            <a:off x="3048120" y="21337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4" name="Line 86"/>
          <p:cNvSpPr/>
          <p:nvPr/>
        </p:nvSpPr>
        <p:spPr>
          <a:xfrm>
            <a:off x="380880" y="2133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5" name="Rectangle 95"/>
          <p:cNvSpPr/>
          <p:nvPr/>
        </p:nvSpPr>
        <p:spPr>
          <a:xfrm>
            <a:off x="1905120" y="3581280"/>
            <a:ext cx="2286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6" name="Rectangle 98"/>
          <p:cNvSpPr/>
          <p:nvPr/>
        </p:nvSpPr>
        <p:spPr>
          <a:xfrm>
            <a:off x="990720" y="2133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7" name="Rectangle 102"/>
          <p:cNvSpPr/>
          <p:nvPr/>
        </p:nvSpPr>
        <p:spPr>
          <a:xfrm>
            <a:off x="3581280" y="2133720"/>
            <a:ext cx="22860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8" name="Rectangle 113"/>
          <p:cNvSpPr/>
          <p:nvPr/>
        </p:nvSpPr>
        <p:spPr>
          <a:xfrm>
            <a:off x="3276720" y="2133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9" name="Rectangle 114"/>
          <p:cNvSpPr/>
          <p:nvPr/>
        </p:nvSpPr>
        <p:spPr>
          <a:xfrm>
            <a:off x="2133720" y="2133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0" name="Rectangle 129"/>
          <p:cNvSpPr/>
          <p:nvPr/>
        </p:nvSpPr>
        <p:spPr>
          <a:xfrm>
            <a:off x="457200" y="3048120"/>
            <a:ext cx="53352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1" name="Rectangle 130"/>
          <p:cNvSpPr/>
          <p:nvPr/>
        </p:nvSpPr>
        <p:spPr>
          <a:xfrm>
            <a:off x="457200" y="2133720"/>
            <a:ext cx="53352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2" name="Rectangle 147"/>
          <p:cNvSpPr/>
          <p:nvPr/>
        </p:nvSpPr>
        <p:spPr>
          <a:xfrm>
            <a:off x="2438280" y="2133720"/>
            <a:ext cx="22860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3" name="Rectangle 151"/>
          <p:cNvSpPr/>
          <p:nvPr/>
        </p:nvSpPr>
        <p:spPr>
          <a:xfrm>
            <a:off x="4267080" y="3733920"/>
            <a:ext cx="76320" cy="228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4" name="Rectangle 152"/>
          <p:cNvSpPr/>
          <p:nvPr/>
        </p:nvSpPr>
        <p:spPr>
          <a:xfrm>
            <a:off x="6705720" y="3733920"/>
            <a:ext cx="75960" cy="228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5" name="Rectangle 153"/>
          <p:cNvSpPr/>
          <p:nvPr/>
        </p:nvSpPr>
        <p:spPr>
          <a:xfrm>
            <a:off x="7238880" y="3733920"/>
            <a:ext cx="76320" cy="228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6" name="Rectangle 157"/>
          <p:cNvSpPr/>
          <p:nvPr/>
        </p:nvSpPr>
        <p:spPr>
          <a:xfrm>
            <a:off x="4267080" y="2666880"/>
            <a:ext cx="76320" cy="3812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7" name="Rectangle 158"/>
          <p:cNvSpPr/>
          <p:nvPr/>
        </p:nvSpPr>
        <p:spPr>
          <a:xfrm>
            <a:off x="6705720" y="2666880"/>
            <a:ext cx="75960" cy="3812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8" name="Rectangle 159"/>
          <p:cNvSpPr/>
          <p:nvPr/>
        </p:nvSpPr>
        <p:spPr>
          <a:xfrm>
            <a:off x="7238880" y="2666880"/>
            <a:ext cx="76320" cy="3812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9" name="AutoShape 170"/>
          <p:cNvSpPr/>
          <p:nvPr/>
        </p:nvSpPr>
        <p:spPr>
          <a:xfrm rot="16200000">
            <a:off x="1066680" y="1142640"/>
            <a:ext cx="304920" cy="1523880"/>
          </a:xfrm>
          <a:custGeom>
            <a:avLst/>
            <a:gdLst>
              <a:gd name="textAreaLeft" fmla="*/ 0 w 304920"/>
              <a:gd name="textAreaRight" fmla="*/ 110160 w 304920"/>
              <a:gd name="textAreaTop" fmla="*/ 52560 h 1523880"/>
              <a:gd name="textAreaBottom" fmla="*/ 14713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5"/>
                  <a:pt x="10800" y="2390"/>
                </a:cubicBezTo>
                <a:lnTo>
                  <a:pt x="10800" y="8222"/>
                </a:lnTo>
                <a:cubicBezTo>
                  <a:pt x="10800" y="9417"/>
                  <a:pt x="16200" y="10612"/>
                  <a:pt x="21600" y="10612"/>
                </a:cubicBezTo>
                <a:cubicBezTo>
                  <a:pt x="16200" y="10612"/>
                  <a:pt x="10800" y="11807"/>
                  <a:pt x="10800" y="13002"/>
                </a:cubicBezTo>
                <a:lnTo>
                  <a:pt x="10800" y="19210"/>
                </a:lnTo>
                <a:cubicBezTo>
                  <a:pt x="10800" y="204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20" name="Text Box 171"/>
          <p:cNvSpPr/>
          <p:nvPr/>
        </p:nvSpPr>
        <p:spPr>
          <a:xfrm>
            <a:off x="45720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Área de serviço personalizado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521" name="Group 183"/>
          <p:cNvGrpSpPr/>
          <p:nvPr/>
        </p:nvGrpSpPr>
        <p:grpSpPr>
          <a:xfrm>
            <a:off x="2057400" y="1219320"/>
            <a:ext cx="6400800" cy="837720"/>
            <a:chOff x="2057400" y="1219320"/>
            <a:chExt cx="6400800" cy="837720"/>
          </a:xfrm>
        </p:grpSpPr>
        <p:sp>
          <p:nvSpPr>
            <p:cNvPr id="522" name="AutoShape 81"/>
            <p:cNvSpPr/>
            <p:nvPr/>
          </p:nvSpPr>
          <p:spPr>
            <a:xfrm rot="16200000">
              <a:off x="6210000" y="-190800"/>
              <a:ext cx="304920" cy="4191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45080 h 4191120"/>
                <a:gd name="textAreaBottom" fmla="*/ 4046040 h 41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95"/>
                    <a:pt x="10800" y="2390"/>
                  </a:cubicBezTo>
                  <a:lnTo>
                    <a:pt x="10800" y="8222"/>
                  </a:lnTo>
                  <a:cubicBezTo>
                    <a:pt x="10800" y="9417"/>
                    <a:pt x="16200" y="10612"/>
                    <a:pt x="21600" y="10612"/>
                  </a:cubicBezTo>
                  <a:cubicBezTo>
                    <a:pt x="16200" y="10612"/>
                    <a:pt x="10800" y="11807"/>
                    <a:pt x="10800" y="13002"/>
                  </a:cubicBezTo>
                  <a:lnTo>
                    <a:pt x="10800" y="19210"/>
                  </a:lnTo>
                  <a:cubicBezTo>
                    <a:pt x="10800" y="20405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23" name="AutoShape 82"/>
            <p:cNvSpPr/>
            <p:nvPr/>
          </p:nvSpPr>
          <p:spPr>
            <a:xfrm rot="16200000">
              <a:off x="2971800" y="837720"/>
              <a:ext cx="304920" cy="21337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3800 h 2133720"/>
                <a:gd name="textAreaBottom" fmla="*/ 205992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95"/>
                    <a:pt x="10800" y="2390"/>
                  </a:cubicBezTo>
                  <a:lnTo>
                    <a:pt x="10800" y="8222"/>
                  </a:lnTo>
                  <a:cubicBezTo>
                    <a:pt x="10800" y="9417"/>
                    <a:pt x="16200" y="10612"/>
                    <a:pt x="21600" y="10612"/>
                  </a:cubicBezTo>
                  <a:cubicBezTo>
                    <a:pt x="16200" y="10612"/>
                    <a:pt x="10800" y="11807"/>
                    <a:pt x="10800" y="13002"/>
                  </a:cubicBezTo>
                  <a:lnTo>
                    <a:pt x="10800" y="19210"/>
                  </a:lnTo>
                  <a:cubicBezTo>
                    <a:pt x="10800" y="20405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24" name="Text Box 172"/>
            <p:cNvSpPr/>
            <p:nvPr/>
          </p:nvSpPr>
          <p:spPr>
            <a:xfrm>
              <a:off x="2362320" y="1219320"/>
              <a:ext cx="144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Área de serviço self-service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25" name="Text Box 173"/>
            <p:cNvSpPr/>
            <p:nvPr/>
          </p:nvSpPr>
          <p:spPr>
            <a:xfrm>
              <a:off x="4800600" y="1371600"/>
              <a:ext cx="312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Área de espera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sp>
        <p:nvSpPr>
          <p:cNvPr id="526" name="Text Box 175"/>
          <p:cNvSpPr/>
          <p:nvPr/>
        </p:nvSpPr>
        <p:spPr>
          <a:xfrm rot="16200000">
            <a:off x="-121680" y="2891880"/>
            <a:ext cx="76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5,30m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27" name="Line 179"/>
          <p:cNvSpPr/>
          <p:nvPr/>
        </p:nvSpPr>
        <p:spPr>
          <a:xfrm>
            <a:off x="8610480" y="21337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28" name="Text Box 181"/>
          <p:cNvSpPr/>
          <p:nvPr/>
        </p:nvSpPr>
        <p:spPr>
          <a:xfrm rot="16200000">
            <a:off x="8460000" y="3123720"/>
            <a:ext cx="76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7,00m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529" name="Group 184"/>
          <p:cNvGrpSpPr/>
          <p:nvPr/>
        </p:nvGrpSpPr>
        <p:grpSpPr>
          <a:xfrm>
            <a:off x="228600" y="4038480"/>
            <a:ext cx="8229600" cy="764280"/>
            <a:chOff x="228600" y="4038480"/>
            <a:chExt cx="8229600" cy="764280"/>
          </a:xfrm>
        </p:grpSpPr>
        <p:sp>
          <p:nvSpPr>
            <p:cNvPr id="530" name="Line 83"/>
            <p:cNvSpPr/>
            <p:nvPr/>
          </p:nvSpPr>
          <p:spPr>
            <a:xfrm>
              <a:off x="4191120" y="40384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31" name="Line 84"/>
            <p:cNvSpPr/>
            <p:nvPr/>
          </p:nvSpPr>
          <p:spPr>
            <a:xfrm>
              <a:off x="457200" y="4419720"/>
              <a:ext cx="80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32" name="Line 85"/>
            <p:cNvSpPr/>
            <p:nvPr/>
          </p:nvSpPr>
          <p:spPr>
            <a:xfrm>
              <a:off x="990720" y="403848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33" name="Text Box 176"/>
            <p:cNvSpPr/>
            <p:nvPr/>
          </p:nvSpPr>
          <p:spPr>
            <a:xfrm>
              <a:off x="5867280" y="40384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16,63 m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34" name="Text Box 177"/>
            <p:cNvSpPr/>
            <p:nvPr/>
          </p:nvSpPr>
          <p:spPr>
            <a:xfrm>
              <a:off x="2133720" y="40384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14,29 m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35" name="Line 178"/>
            <p:cNvSpPr/>
            <p:nvPr/>
          </p:nvSpPr>
          <p:spPr>
            <a:xfrm>
              <a:off x="380880" y="4038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36" name="Text Box 180"/>
            <p:cNvSpPr/>
            <p:nvPr/>
          </p:nvSpPr>
          <p:spPr>
            <a:xfrm>
              <a:off x="228600" y="40384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2,08 m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37" name="Text Box 182"/>
            <p:cNvSpPr/>
            <p:nvPr/>
          </p:nvSpPr>
          <p:spPr>
            <a:xfrm>
              <a:off x="4038480" y="4495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33,00 m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sp>
        <p:nvSpPr>
          <p:cNvPr id="538" name="Rectangle 185"/>
          <p:cNvSpPr/>
          <p:nvPr/>
        </p:nvSpPr>
        <p:spPr>
          <a:xfrm>
            <a:off x="990720" y="2133720"/>
            <a:ext cx="6094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539" name="Group 190"/>
          <p:cNvGrpSpPr/>
          <p:nvPr/>
        </p:nvGrpSpPr>
        <p:grpSpPr>
          <a:xfrm>
            <a:off x="380880" y="5105520"/>
            <a:ext cx="8620200" cy="1068840"/>
            <a:chOff x="380880" y="5105520"/>
            <a:chExt cx="8620200" cy="1068840"/>
          </a:xfrm>
        </p:grpSpPr>
        <p:sp>
          <p:nvSpPr>
            <p:cNvPr id="540" name="Rectangle 90"/>
            <p:cNvSpPr/>
            <p:nvPr/>
          </p:nvSpPr>
          <p:spPr>
            <a:xfrm>
              <a:off x="380880" y="5181480"/>
              <a:ext cx="26064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41" name="Rectangle 91"/>
            <p:cNvSpPr/>
            <p:nvPr/>
          </p:nvSpPr>
          <p:spPr>
            <a:xfrm>
              <a:off x="380880" y="5562720"/>
              <a:ext cx="260640" cy="2286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42" name="Rectangle 92"/>
            <p:cNvSpPr/>
            <p:nvPr/>
          </p:nvSpPr>
          <p:spPr>
            <a:xfrm>
              <a:off x="380880" y="5943600"/>
              <a:ext cx="260640" cy="2286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43" name="Rectangle 93"/>
            <p:cNvSpPr/>
            <p:nvPr/>
          </p:nvSpPr>
          <p:spPr>
            <a:xfrm>
              <a:off x="2719440" y="5181480"/>
              <a:ext cx="260280" cy="2286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44" name="Rectangle 94"/>
            <p:cNvSpPr/>
            <p:nvPr/>
          </p:nvSpPr>
          <p:spPr>
            <a:xfrm>
              <a:off x="2719440" y="5562720"/>
              <a:ext cx="260280" cy="22860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45" name="Rectangle 96"/>
            <p:cNvSpPr/>
            <p:nvPr/>
          </p:nvSpPr>
          <p:spPr>
            <a:xfrm>
              <a:off x="2719440" y="5943600"/>
              <a:ext cx="26028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46" name="Rectangle 148"/>
            <p:cNvSpPr/>
            <p:nvPr/>
          </p:nvSpPr>
          <p:spPr>
            <a:xfrm>
              <a:off x="4886280" y="5181480"/>
              <a:ext cx="25884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47" name="Rectangle 149"/>
            <p:cNvSpPr/>
            <p:nvPr/>
          </p:nvSpPr>
          <p:spPr>
            <a:xfrm>
              <a:off x="4886280" y="5562720"/>
              <a:ext cx="25884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48" name="Rectangle 150"/>
            <p:cNvSpPr/>
            <p:nvPr/>
          </p:nvSpPr>
          <p:spPr>
            <a:xfrm>
              <a:off x="4886280" y="5943600"/>
              <a:ext cx="258840" cy="2286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49" name="Text Box 160"/>
            <p:cNvSpPr/>
            <p:nvPr/>
          </p:nvSpPr>
          <p:spPr>
            <a:xfrm>
              <a:off x="727200" y="5105520"/>
              <a:ext cx="156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X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50" name="Text Box 161"/>
            <p:cNvSpPr/>
            <p:nvPr/>
          </p:nvSpPr>
          <p:spPr>
            <a:xfrm>
              <a:off x="4929120" y="585792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H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51" name="Text Box 162"/>
            <p:cNvSpPr/>
            <p:nvPr/>
          </p:nvSpPr>
          <p:spPr>
            <a:xfrm>
              <a:off x="5145120" y="5486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G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52" name="Text Box 163"/>
            <p:cNvSpPr/>
            <p:nvPr/>
          </p:nvSpPr>
          <p:spPr>
            <a:xfrm>
              <a:off x="5145120" y="5105520"/>
              <a:ext cx="142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F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53" name="Text Box 164"/>
            <p:cNvSpPr/>
            <p:nvPr/>
          </p:nvSpPr>
          <p:spPr>
            <a:xfrm>
              <a:off x="2979720" y="5486400"/>
              <a:ext cx="181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T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54" name="Text Box 165"/>
            <p:cNvSpPr/>
            <p:nvPr/>
          </p:nvSpPr>
          <p:spPr>
            <a:xfrm>
              <a:off x="2979720" y="5867280"/>
              <a:ext cx="181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U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55" name="Text Box 166"/>
            <p:cNvSpPr/>
            <p:nvPr/>
          </p:nvSpPr>
          <p:spPr>
            <a:xfrm>
              <a:off x="3071880" y="5143680"/>
              <a:ext cx="15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56" name="Text Box 167"/>
            <p:cNvSpPr/>
            <p:nvPr/>
          </p:nvSpPr>
          <p:spPr>
            <a:xfrm>
              <a:off x="642960" y="5500800"/>
              <a:ext cx="181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Y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57" name="Text Box 168"/>
            <p:cNvSpPr/>
            <p:nvPr/>
          </p:nvSpPr>
          <p:spPr>
            <a:xfrm>
              <a:off x="727200" y="5867280"/>
              <a:ext cx="156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Z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58" name="Text Box 169"/>
            <p:cNvSpPr/>
            <p:nvPr/>
          </p:nvSpPr>
          <p:spPr>
            <a:xfrm>
              <a:off x="7397640" y="5105520"/>
              <a:ext cx="153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K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59" name="Rectangle 187"/>
            <p:cNvSpPr/>
            <p:nvPr/>
          </p:nvSpPr>
          <p:spPr>
            <a:xfrm>
              <a:off x="7209000" y="5181480"/>
              <a:ext cx="258480" cy="2286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60" name="Text Box 188"/>
            <p:cNvSpPr/>
            <p:nvPr/>
          </p:nvSpPr>
          <p:spPr>
            <a:xfrm>
              <a:off x="7397640" y="5486400"/>
              <a:ext cx="160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L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61" name="Rectangle 189"/>
            <p:cNvSpPr/>
            <p:nvPr/>
          </p:nvSpPr>
          <p:spPr>
            <a:xfrm>
              <a:off x="7209000" y="5562720"/>
              <a:ext cx="25848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0040" y="2357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presentação do Projecto/ </a:t>
            </a:r>
            <a:br>
              <a:rPr sz="5400"/>
            </a:b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do Negócio</a:t>
            </a:r>
            <a:br>
              <a:rPr sz="5400"/>
            </a:b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Projecções Financeir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4E79-1A6A-45D0-A00B-B8DF64B7AC87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Pressupostos  do Projec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Número de dias de funcionamento: 363 dia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IRC: taxa de 15% (por ser região do interio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azo médio de pagamento: 60 dias; 30 dias da Água, Electricidade e outro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azo médio de recebimento: 0 dias – serviço pago a pronto pagament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Remuneração do Pessoa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22480" indent="-273240" algn="just">
              <a:lnSpc>
                <a:spcPct val="1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pt-PT" sz="1500" spc="-1" strike="noStrike">
                <a:solidFill>
                  <a:srgbClr val="000000"/>
                </a:solidFill>
                <a:latin typeface="Times New Roman"/>
              </a:rPr>
              <a:t>89,12% Custo Fix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Times New Roman"/>
              </a:rPr>
              <a:t>        – </a:t>
            </a:r>
            <a:r>
              <a:rPr b="0" lang="pt-PT" sz="1500" spc="-1" strike="noStrike">
                <a:solidFill>
                  <a:srgbClr val="000000"/>
                </a:solidFill>
                <a:latin typeface="Times New Roman"/>
              </a:rPr>
              <a:t>10,88% Custo Variável: resultante de incentivos dados aos 2 funcionários por uma boa avaliação do seu desempenho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Taxa de Inflação: 3,0% – baseada na previsão para 200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909B-B135-4E14-B5F6-B08F8B17FEBD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Investimentos a Realiz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1E44-B7A8-4A4F-97C5-92D6A497439A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785880" y="1000080"/>
          <a:ext cx="7848360" cy="4956120"/>
        </p:xfrm>
        <a:graphic>
          <a:graphicData uri="http://schemas.openxmlformats.org/drawingml/2006/table">
            <a:tbl>
              <a:tblPr/>
              <a:tblGrid>
                <a:gridCol w="1981080"/>
                <a:gridCol w="3276720"/>
                <a:gridCol w="259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vestiment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or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291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Infra-estrutur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Equipamentos Básico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onsumívei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tos para um ano (média)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Equipamento Administrativ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Outros Equipamento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espesas de Constituição e Licença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enças de funcionamento;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vará de Construção;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pesas Jurídicas.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 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Marketing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x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e Comunicação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Previsão de Custos de Exploraçã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6559-B024-4D3B-BE90-EFEE2B3A4A81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28600" y="1295280"/>
          <a:ext cx="8458200" cy="4930920"/>
        </p:xfrm>
        <a:graphic>
          <a:graphicData uri="http://schemas.openxmlformats.org/drawingml/2006/table">
            <a:tbl>
              <a:tblPr/>
              <a:tblGrid>
                <a:gridCol w="1905120"/>
                <a:gridCol w="1371600"/>
                <a:gridCol w="990360"/>
                <a:gridCol w="990720"/>
                <a:gridCol w="1066680"/>
                <a:gridCol w="1067040"/>
                <a:gridCol w="1066680"/>
              </a:tblGrid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8 meses)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7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onsumívei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Electricidade, Água e Combustívei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 em relação à procura previs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Publicidade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s Publicitário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Material de Escritóri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lhas, Papel Fotografia, etc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Honorário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Arrendamento do Espaç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nda e distribuição de 2,5% lucro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Fontes de Financiamen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xter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Capitais Próprio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Sócios iguais: € = 2 x €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Capitais Alheio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Empréstimo bancário: €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Reembolsável no prazo de x ano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Prestação mensal de  €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Subsídio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Fundo Perdido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ILE`s: Iniciativas Locais de Empreg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ABC4-C0C1-4A5F-A2C8-1B35B3B2D19D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04920" y="5106960"/>
          <a:ext cx="8534160" cy="114444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ama de Apoi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lume de Financiament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or Pretendid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dos Apoio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17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ILE´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estimento até 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Demonstração de Resultados Prevision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0" y="129528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A Demonstração de Resultados da </a:t>
            </a: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XPTO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transmite-nos nesta fase uma primeira noção sobre a sua viabilidade. Este facto verifica-se, dado que os resultados líquidos dos 5 primeiros anos são positiv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7733-262C-4869-B6DA-22FB344A585B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580" name="Object 6"/>
          <p:cNvGraphicFramePr/>
          <p:nvPr/>
        </p:nvGraphicFramePr>
        <p:xfrm>
          <a:off x="609480" y="2819520"/>
          <a:ext cx="7848720" cy="305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819520"/>
                    <a:ext cx="7848720" cy="30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Text Box 7"/>
          <p:cNvSpPr/>
          <p:nvPr/>
        </p:nvSpPr>
        <p:spPr>
          <a:xfrm>
            <a:off x="609480" y="5867280"/>
            <a:ext cx="762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* Em 2005 o Resultado Liquido é positivo, se contarmos somente 8 meses de remuneração no 1º ano, RL = 2.640 €).</a:t>
            </a: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** Ano cruzeiro</a:t>
            </a: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Estudo sobre o Potencial do Merc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13840" y="1599840"/>
            <a:ext cx="8472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om o objectivo de conhecer o potencial de mercado para o nosso projecto realizámos um conjunto de inquéritos na cidade de Chaves e arredores. Destacam-se as seguintes conclusõ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2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2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just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Há um mercado potencial bastante significativo para os serviços que a empresa pretende prestar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 algn="just">
              <a:lnSpc>
                <a:spcPct val="2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Muitos potenciais clientes realizam o serviço de (…) em casa; têm, porém, cada vez menos tempo para o efectuar, pelo que há condições para que recorram, com maior frequência, ao serviço de (…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just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just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B3DB-0674-4B79-BA6E-FED4F33879C3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Cash-Flow Previsiona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2949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cash-flow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previsional ou a capacidade da empresa se auto-financiar é negativo apenas no 1.º ano devido aos investimentos iniciais realizad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D29A-0115-44AA-815F-26E8159E2F07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586" name="Object 4"/>
          <p:cNvGraphicFramePr/>
          <p:nvPr/>
        </p:nvGraphicFramePr>
        <p:xfrm>
          <a:off x="533520" y="2743200"/>
          <a:ext cx="8001000" cy="33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743200"/>
                    <a:ext cx="800100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Text Box 6"/>
          <p:cNvSpPr/>
          <p:nvPr/>
        </p:nvSpPr>
        <p:spPr>
          <a:xfrm>
            <a:off x="609480" y="6080040"/>
            <a:ext cx="76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** Ano cruzeiro</a:t>
            </a: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Indicadores do Projec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5235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imes New Roman"/>
              </a:rPr>
              <a:t>Pay-b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 prazo de recuperação do investimento é de z an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VAL – </a:t>
            </a: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Valor Actualizado Líqui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 VAL da </a:t>
            </a:r>
            <a:r>
              <a:rPr b="1" i="1" lang="pt-PT" sz="1600" spc="-1" strike="noStrike">
                <a:solidFill>
                  <a:srgbClr val="000000"/>
                </a:solidFill>
                <a:latin typeface="Monotype Corsiva"/>
              </a:rPr>
              <a:t>XPTO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presenta-se positivo, com o valor de €. Assim, este negócio permite recuperar o investimento efectuado, tal como cobrir todas as suas obrigações, gerando ainda um excedente claramente positiv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TIR – </a:t>
            </a: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Taxa Interna de Rentabilid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 Valor da TIR é de %, superior às remunerações alternativas de capital exist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606D-D584-4DF9-8588-CC8D5CA6F55A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Indicadores do Projec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228600" y="10663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imes New Roman"/>
              </a:rPr>
              <a:t>Ponto Crí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No gráfico estão representados os valores para os quais a empresa atingirá o ponto crítico nas vendas. Assim, o 1.º ano é aquele que apresenta um ponto crítico mais elevado, resultante do investimento inicial efectuado.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6B17-57D2-4056-980F-CF5C7CD2DED0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595" name="Object 5"/>
          <p:cNvGraphicFramePr/>
          <p:nvPr/>
        </p:nvGraphicFramePr>
        <p:xfrm>
          <a:off x="609480" y="2971800"/>
          <a:ext cx="777240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971800"/>
                    <a:ext cx="7772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Text Box 6"/>
          <p:cNvSpPr/>
          <p:nvPr/>
        </p:nvSpPr>
        <p:spPr>
          <a:xfrm>
            <a:off x="609480" y="6080040"/>
            <a:ext cx="76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** Ano cruzeiro</a:t>
            </a: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Indicadores do Projec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52280" y="16765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51"/>
              </a:spcBef>
              <a:spcAft>
                <a:spcPts val="1001"/>
              </a:spcAft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imes New Roman"/>
              </a:rPr>
              <a:t>Análise de Sensibilidade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200000"/>
              </a:lnSpc>
              <a:spcBef>
                <a:spcPts val="675"/>
              </a:spcBef>
              <a:spcAft>
                <a:spcPts val="901"/>
              </a:spcAft>
              <a:buClr>
                <a:srgbClr val="eeece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Fazendo uma diminuição de 20% dos proveitos, a TIR desce para 45,8%. Este factor não tem grandes implicações, já que a TIR ainda se mantém elevad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200000"/>
              </a:lnSpc>
              <a:spcBef>
                <a:spcPts val="675"/>
              </a:spcBef>
              <a:spcAft>
                <a:spcPts val="901"/>
              </a:spcAft>
              <a:buClr>
                <a:srgbClr val="eeece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mo curiosidade, fazendo uma análise de sensibilidade de menos 50%, a TIR ainda se mantém positiva, assumindo um valor de 16,2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5000"/>
              </a:lnSpc>
              <a:spcBef>
                <a:spcPts val="675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D74D-9300-44DE-807C-4A6AB38968B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600" spc="-1" strike="noStrike">
                <a:solidFill>
                  <a:srgbClr val="000000"/>
                </a:solidFill>
                <a:latin typeface="Monotype Corsiva"/>
              </a:rPr>
              <a:t>ANEXOS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250C-5C21-4293-B320-C2338066BD2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02E5-17A5-4DCA-BDF1-20A12B06C21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S 1 – Curriculum Vitae dos Promotores</a:t>
            </a:r>
            <a:endParaRPr b="1" lang="en-US" sz="4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EA50-9E75-42C8-8121-B4DE57C62284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 2 – Questionário</a:t>
            </a:r>
            <a:endParaRPr b="1" lang="en-US" sz="4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6874-FFB3-49F4-913F-B78664298E9D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 3 – Documentação técnica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 Layout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Fotos das Instalações e Produtos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7A3B-3A4E-497B-84BC-5456AAB2262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428760" y="3000240"/>
            <a:ext cx="82296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 4 – Mapas previsionais</a:t>
            </a:r>
            <a:endParaRPr b="1" lang="en-US" sz="40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Mapa de Custos e Investimentos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Mapa de Origem e Aplicação de Fundos e Balanço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Demonstração de resultados e Cash-flow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21E7-1CF0-415F-BE69-2C3F5EF75C3F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 5 – Meios de Financiamento</a:t>
            </a:r>
            <a:br>
              <a:rPr sz="40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Empréstimo Bancário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 Subsídio 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Estudo sobre o Potencial do Merc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A913-A48F-4027-94B5-D258727E91E1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174" name="Object 1028"/>
          <p:cNvGraphicFramePr/>
          <p:nvPr/>
        </p:nvGraphicFramePr>
        <p:xfrm>
          <a:off x="4648320" y="3962520"/>
          <a:ext cx="3962160" cy="228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962520"/>
                    <a:ext cx="3962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9"/>
          <p:cNvGraphicFramePr/>
          <p:nvPr/>
        </p:nvGraphicFramePr>
        <p:xfrm>
          <a:off x="457200" y="3962520"/>
          <a:ext cx="3949560" cy="2400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7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962520"/>
                    <a:ext cx="394956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1030"/>
          <p:cNvGraphicFramePr/>
          <p:nvPr/>
        </p:nvGraphicFramePr>
        <p:xfrm>
          <a:off x="4648320" y="1434960"/>
          <a:ext cx="3949560" cy="2400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9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1434960"/>
                    <a:ext cx="394956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031"/>
          <p:cNvGraphicFramePr/>
          <p:nvPr/>
        </p:nvGraphicFramePr>
        <p:xfrm>
          <a:off x="457200" y="1420920"/>
          <a:ext cx="3962520" cy="2313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81" name="Object 10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1420920"/>
                    <a:ext cx="396252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1033"/>
          <p:cNvSpPr/>
          <p:nvPr/>
        </p:nvSpPr>
        <p:spPr>
          <a:xfrm>
            <a:off x="533520" y="11430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Periodicidade da utilização do serviço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83" name="Text Box 1034"/>
          <p:cNvSpPr/>
          <p:nvPr/>
        </p:nvSpPr>
        <p:spPr>
          <a:xfrm>
            <a:off x="4724280" y="11430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Onde costuma realizar o serviço?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84" name="Text Box 1035"/>
          <p:cNvSpPr/>
          <p:nvPr/>
        </p:nvSpPr>
        <p:spPr>
          <a:xfrm>
            <a:off x="4648320" y="37339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Estaria interessado num serviço de (…)? 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85" name="Text Box 1036"/>
          <p:cNvSpPr/>
          <p:nvPr/>
        </p:nvSpPr>
        <p:spPr>
          <a:xfrm>
            <a:off x="457200" y="37339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Qual a modalidade que mais utiliza?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8822-41F2-4FBF-A5B0-7A0AC7FBF2CA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 6 – Documentação legal e jurídica</a:t>
            </a:r>
            <a:br>
              <a:rPr sz="40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Passos para a Constituição da Empresa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 Estatutos da XPTO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27Z</dcterms:created>
  <dc:creator>Ricardo Gonçalves</dc:creator>
  <dc:description/>
  <dc:language>en-US</dc:language>
  <cp:lastModifiedBy>Operador</cp:lastModifiedBy>
  <dcterms:modified xsi:type="dcterms:W3CDTF">2008-05-12T23:41:21Z</dcterms:modified>
  <cp:revision>250</cp:revision>
  <dc:subject/>
  <dc:title>Diapositivo 1</dc:title>
</cp:coreProperties>
</file>